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3F9-C778-4BFE-B883-5863E56C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029-F401-43F3-BD8A-0C1F7606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619-5E37-44F2-BB04-8FDDBB48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B04-614C-4E5B-950F-A50E5293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2E2-DF59-4404-98B9-FF22DF3F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275-B5B0-428E-B2CB-A5215685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BCD-AB0E-4102-9625-36E7D069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F9F-683E-4631-9877-764ED033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D97-3321-4FEF-BA27-4BCD7B52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587-BE6B-4877-9C01-8D21298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E77-9715-4461-9599-19B58A5D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D3A-5B32-4B02-BF93-5B1AC63F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28CA-48D4-4BA2-8F60-9BF7F82186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5ffff"/>
                </a:solidFill>
                <a:latin typeface="Tahoma"/>
              </a:rPr>
              <a:t>Chapter Three</a:t>
            </a:r>
            <a:br>
              <a:rPr sz="8000"/>
            </a:b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Exponents and Logarith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5ffff"/>
                </a:solidFill>
                <a:latin typeface="Tahoma"/>
              </a:rPr>
              <a:t>Lesson 3.1</a:t>
            </a:r>
            <a:endParaRPr b="0" lang="en-US" sz="75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a calculator to compu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3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√146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219320" y="38098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Ink 5"/>
          <p:cNvSpPr/>
          <p:nvPr/>
        </p:nvSpPr>
        <p:spPr>
          <a:xfrm>
            <a:off x="1643040" y="2062080"/>
            <a:ext cx="1019160" cy="312840"/>
          </a:xfrm>
          <a:custGeom>
            <a:avLst/>
            <a:gdLst/>
            <a:ahLst/>
            <a:rect l="l" t="t" r="r" b="b"/>
            <a:pathLst>
              <a:path w="2829" h="869">
                <a:moveTo>
                  <a:pt x="4589" y="6077"/>
                </a:moveTo>
                <a:cubicBezTo>
                  <a:pt x="4657" y="6043"/>
                  <a:pt x="4731" y="6052"/>
                  <a:pt x="4812" y="6052"/>
                </a:cubicBezTo>
                <a:cubicBezTo>
                  <a:pt x="4829" y="6052"/>
                  <a:pt x="4845" y="6052"/>
                  <a:pt x="4862" y="6052"/>
                </a:cubicBezTo>
              </a:path>
              <a:path w="2829" h="869">
                <a:moveTo>
                  <a:pt x="4564" y="6276"/>
                </a:moveTo>
                <a:cubicBezTo>
                  <a:pt x="4650" y="6291"/>
                  <a:pt x="4704" y="6300"/>
                  <a:pt x="4787" y="6300"/>
                </a:cubicBezTo>
              </a:path>
              <a:path w="2829" h="869">
                <a:moveTo>
                  <a:pt x="5755" y="5829"/>
                </a:moveTo>
                <a:cubicBezTo>
                  <a:pt x="5763" y="5812"/>
                  <a:pt x="5771" y="5796"/>
                  <a:pt x="5779" y="5779"/>
                </a:cubicBezTo>
                <a:cubicBezTo>
                  <a:pt x="5722" y="5734"/>
                  <a:pt x="5657" y="5710"/>
                  <a:pt x="5581" y="5730"/>
                </a:cubicBezTo>
                <a:cubicBezTo>
                  <a:pt x="5525" y="5745"/>
                  <a:pt x="5433" y="5756"/>
                  <a:pt x="5383" y="5779"/>
                </a:cubicBezTo>
                <a:cubicBezTo>
                  <a:pt x="5330" y="5803"/>
                  <a:pt x="5261" y="5859"/>
                  <a:pt x="5283" y="5928"/>
                </a:cubicBezTo>
                <a:cubicBezTo>
                  <a:pt x="5311" y="6019"/>
                  <a:pt x="5489" y="6119"/>
                  <a:pt x="5556" y="6176"/>
                </a:cubicBezTo>
                <a:cubicBezTo>
                  <a:pt x="5626" y="6236"/>
                  <a:pt x="5687" y="6332"/>
                  <a:pt x="5705" y="6424"/>
                </a:cubicBezTo>
                <a:cubicBezTo>
                  <a:pt x="5714" y="6473"/>
                  <a:pt x="5754" y="6571"/>
                  <a:pt x="5680" y="6598"/>
                </a:cubicBezTo>
                <a:cubicBezTo>
                  <a:pt x="5612" y="6623"/>
                  <a:pt x="5550" y="6567"/>
                  <a:pt x="5507" y="6524"/>
                </a:cubicBezTo>
                <a:cubicBezTo>
                  <a:pt x="5468" y="6485"/>
                  <a:pt x="5468" y="6379"/>
                  <a:pt x="5482" y="6325"/>
                </a:cubicBezTo>
                <a:cubicBezTo>
                  <a:pt x="5504" y="6242"/>
                  <a:pt x="5567" y="6154"/>
                  <a:pt x="5606" y="6077"/>
                </a:cubicBezTo>
                <a:cubicBezTo>
                  <a:pt x="5637" y="6016"/>
                  <a:pt x="5684" y="5954"/>
                  <a:pt x="5730" y="5904"/>
                </a:cubicBezTo>
                <a:cubicBezTo>
                  <a:pt x="5755" y="5879"/>
                  <a:pt x="5763" y="5871"/>
                  <a:pt x="5779" y="5854"/>
                </a:cubicBezTo>
              </a:path>
              <a:path w="2829" h="869">
                <a:moveTo>
                  <a:pt x="6003" y="6424"/>
                </a:moveTo>
                <a:cubicBezTo>
                  <a:pt x="6011" y="6432"/>
                  <a:pt x="6020" y="6441"/>
                  <a:pt x="6028" y="6449"/>
                </a:cubicBezTo>
              </a:path>
              <a:path w="2829" h="869">
                <a:moveTo>
                  <a:pt x="6300" y="5779"/>
                </a:moveTo>
                <a:cubicBezTo>
                  <a:pt x="6410" y="5772"/>
                  <a:pt x="6513" y="5755"/>
                  <a:pt x="6623" y="5755"/>
                </a:cubicBezTo>
                <a:cubicBezTo>
                  <a:pt x="6672" y="5755"/>
                  <a:pt x="6689" y="5755"/>
                  <a:pt x="6722" y="5755"/>
                </a:cubicBezTo>
              </a:path>
              <a:path w="2829" h="869">
                <a:moveTo>
                  <a:pt x="6300" y="5854"/>
                </a:moveTo>
                <a:cubicBezTo>
                  <a:pt x="6266" y="6005"/>
                  <a:pt x="6206" y="6056"/>
                  <a:pt x="6300" y="6152"/>
                </a:cubicBezTo>
                <a:cubicBezTo>
                  <a:pt x="6350" y="6102"/>
                  <a:pt x="6377" y="6055"/>
                  <a:pt x="6449" y="6052"/>
                </a:cubicBezTo>
                <a:cubicBezTo>
                  <a:pt x="6521" y="6049"/>
                  <a:pt x="6601" y="6069"/>
                  <a:pt x="6648" y="6127"/>
                </a:cubicBezTo>
                <a:cubicBezTo>
                  <a:pt x="6681" y="6167"/>
                  <a:pt x="6736" y="6249"/>
                  <a:pt x="6747" y="6300"/>
                </a:cubicBezTo>
                <a:cubicBezTo>
                  <a:pt x="6759" y="6355"/>
                  <a:pt x="6755" y="6433"/>
                  <a:pt x="6722" y="6474"/>
                </a:cubicBezTo>
                <a:cubicBezTo>
                  <a:pt x="6683" y="6523"/>
                  <a:pt x="6658" y="6545"/>
                  <a:pt x="6598" y="6548"/>
                </a:cubicBezTo>
                <a:cubicBezTo>
                  <a:pt x="6485" y="6554"/>
                  <a:pt x="6470" y="6554"/>
                  <a:pt x="6449" y="6449"/>
                </a:cubicBezTo>
              </a:path>
              <a:path w="2829" h="869">
                <a:moveTo>
                  <a:pt x="6945" y="5854"/>
                </a:moveTo>
                <a:cubicBezTo>
                  <a:pt x="7008" y="5863"/>
                  <a:pt x="7073" y="5901"/>
                  <a:pt x="7144" y="5879"/>
                </a:cubicBezTo>
                <a:cubicBezTo>
                  <a:pt x="7197" y="5862"/>
                  <a:pt x="7232" y="5833"/>
                  <a:pt x="7293" y="5829"/>
                </a:cubicBezTo>
                <a:cubicBezTo>
                  <a:pt x="7420" y="5821"/>
                  <a:pt x="7392" y="5903"/>
                  <a:pt x="7392" y="6003"/>
                </a:cubicBezTo>
                <a:cubicBezTo>
                  <a:pt x="7392" y="6089"/>
                  <a:pt x="7387" y="6194"/>
                  <a:pt x="7367" y="6276"/>
                </a:cubicBezTo>
                <a:cubicBezTo>
                  <a:pt x="7346" y="6362"/>
                  <a:pt x="7362" y="6387"/>
                  <a:pt x="7367" y="6474"/>
                </a:cubicBezTo>
                <a:cubicBezTo>
                  <a:pt x="7367" y="6532"/>
                  <a:pt x="7367" y="6557"/>
                  <a:pt x="7367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Ink 6"/>
          <p:cNvSpPr/>
          <p:nvPr/>
        </p:nvSpPr>
        <p:spPr>
          <a:xfrm>
            <a:off x="1652760" y="2759040"/>
            <a:ext cx="10620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4589" y="7665"/>
                </a:moveTo>
                <a:cubicBezTo>
                  <a:pt x="4647" y="7665"/>
                  <a:pt x="4704" y="7665"/>
                  <a:pt x="4762" y="7665"/>
                </a:cubicBezTo>
              </a:path>
              <a:path w="299" h="125">
                <a:moveTo>
                  <a:pt x="4688" y="7789"/>
                </a:moveTo>
                <a:cubicBezTo>
                  <a:pt x="4754" y="7789"/>
                  <a:pt x="4821" y="7789"/>
                  <a:pt x="4887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Ink 7"/>
          <p:cNvSpPr/>
          <p:nvPr/>
        </p:nvSpPr>
        <p:spPr>
          <a:xfrm>
            <a:off x="1990800" y="2982960"/>
            <a:ext cx="2844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5531" y="8285"/>
                </a:moveTo>
                <a:cubicBezTo>
                  <a:pt x="5531" y="8335"/>
                  <a:pt x="5552" y="8418"/>
                  <a:pt x="5606" y="8334"/>
                </a:cubicBezTo>
                <a:cubicBezTo>
                  <a:pt x="5627" y="8302"/>
                  <a:pt x="5568" y="8299"/>
                  <a:pt x="5531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Ink 8"/>
          <p:cNvSpPr/>
          <p:nvPr/>
        </p:nvSpPr>
        <p:spPr>
          <a:xfrm>
            <a:off x="2232000" y="2732040"/>
            <a:ext cx="563760" cy="322200"/>
          </a:xfrm>
          <a:custGeom>
            <a:avLst/>
            <a:gdLst/>
            <a:ahLst/>
            <a:rect l="l" t="t" r="r" b="b"/>
            <a:pathLst>
              <a:path w="1564" h="894">
                <a:moveTo>
                  <a:pt x="6201" y="7640"/>
                </a:moveTo>
                <a:cubicBezTo>
                  <a:pt x="6201" y="7880"/>
                  <a:pt x="6201" y="8119"/>
                  <a:pt x="6201" y="8359"/>
                </a:cubicBezTo>
              </a:path>
              <a:path w="1564" h="894">
                <a:moveTo>
                  <a:pt x="6474" y="7590"/>
                </a:moveTo>
                <a:cubicBezTo>
                  <a:pt x="6474" y="7698"/>
                  <a:pt x="6453" y="7785"/>
                  <a:pt x="6449" y="7888"/>
                </a:cubicBezTo>
                <a:cubicBezTo>
                  <a:pt x="6445" y="7978"/>
                  <a:pt x="6402" y="8067"/>
                  <a:pt x="6424" y="8161"/>
                </a:cubicBezTo>
                <a:cubicBezTo>
                  <a:pt x="6438" y="8224"/>
                  <a:pt x="6449" y="8266"/>
                  <a:pt x="6449" y="8334"/>
                </a:cubicBezTo>
                <a:cubicBezTo>
                  <a:pt x="6449" y="8482"/>
                  <a:pt x="6464" y="8382"/>
                  <a:pt x="6474" y="8334"/>
                </a:cubicBezTo>
              </a:path>
              <a:path w="1564" h="894">
                <a:moveTo>
                  <a:pt x="6747" y="7615"/>
                </a:moveTo>
                <a:cubicBezTo>
                  <a:pt x="6727" y="7710"/>
                  <a:pt x="6701" y="7794"/>
                  <a:pt x="6697" y="7888"/>
                </a:cubicBezTo>
                <a:cubicBezTo>
                  <a:pt x="6693" y="7981"/>
                  <a:pt x="6673" y="8042"/>
                  <a:pt x="6697" y="8136"/>
                </a:cubicBezTo>
                <a:cubicBezTo>
                  <a:pt x="6707" y="8177"/>
                  <a:pt x="6753" y="8288"/>
                  <a:pt x="6796" y="8310"/>
                </a:cubicBezTo>
                <a:cubicBezTo>
                  <a:pt x="6876" y="8352"/>
                  <a:pt x="6998" y="8316"/>
                  <a:pt x="7045" y="8235"/>
                </a:cubicBezTo>
                <a:cubicBezTo>
                  <a:pt x="7087" y="8163"/>
                  <a:pt x="7081" y="8035"/>
                  <a:pt x="7045" y="7962"/>
                </a:cubicBezTo>
                <a:cubicBezTo>
                  <a:pt x="7037" y="7954"/>
                  <a:pt x="7028" y="7946"/>
                  <a:pt x="7020" y="7938"/>
                </a:cubicBezTo>
                <a:cubicBezTo>
                  <a:pt x="6981" y="7943"/>
                  <a:pt x="6911" y="7959"/>
                  <a:pt x="6896" y="8012"/>
                </a:cubicBezTo>
                <a:cubicBezTo>
                  <a:pt x="6874" y="8089"/>
                  <a:pt x="6903" y="8195"/>
                  <a:pt x="6945" y="8260"/>
                </a:cubicBezTo>
                <a:cubicBezTo>
                  <a:pt x="6973" y="8288"/>
                  <a:pt x="6987" y="8297"/>
                  <a:pt x="7020" y="8285"/>
                </a:cubicBezTo>
              </a:path>
              <a:path w="1564" h="894">
                <a:moveTo>
                  <a:pt x="7342" y="7640"/>
                </a:moveTo>
                <a:cubicBezTo>
                  <a:pt x="7303" y="7808"/>
                  <a:pt x="7227" y="7952"/>
                  <a:pt x="7293" y="8111"/>
                </a:cubicBezTo>
                <a:cubicBezTo>
                  <a:pt x="7321" y="8178"/>
                  <a:pt x="7374" y="8231"/>
                  <a:pt x="7441" y="8260"/>
                </a:cubicBezTo>
                <a:cubicBezTo>
                  <a:pt x="7540" y="8303"/>
                  <a:pt x="7558" y="8279"/>
                  <a:pt x="7640" y="8235"/>
                </a:cubicBezTo>
                <a:cubicBezTo>
                  <a:pt x="7670" y="8219"/>
                  <a:pt x="7753" y="8175"/>
                  <a:pt x="7764" y="8136"/>
                </a:cubicBezTo>
                <a:cubicBezTo>
                  <a:pt x="7764" y="8119"/>
                  <a:pt x="7764" y="8103"/>
                  <a:pt x="7764" y="8086"/>
                </a:cubicBezTo>
                <a:cubicBezTo>
                  <a:pt x="7686" y="8041"/>
                  <a:pt x="7654" y="8075"/>
                  <a:pt x="7590" y="8136"/>
                </a:cubicBezTo>
                <a:cubicBezTo>
                  <a:pt x="7522" y="8201"/>
                  <a:pt x="7492" y="8260"/>
                  <a:pt x="7441" y="8334"/>
                </a:cubicBezTo>
                <a:cubicBezTo>
                  <a:pt x="7398" y="8396"/>
                  <a:pt x="7399" y="8403"/>
                  <a:pt x="7392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Ink 9"/>
          <p:cNvSpPr/>
          <p:nvPr/>
        </p:nvSpPr>
        <p:spPr>
          <a:xfrm>
            <a:off x="1098720" y="3197160"/>
            <a:ext cx="71280" cy="285840"/>
          </a:xfrm>
          <a:custGeom>
            <a:avLst/>
            <a:gdLst/>
            <a:ahLst/>
            <a:rect l="l" t="t" r="r" b="b"/>
            <a:pathLst>
              <a:path w="199" h="795">
                <a:moveTo>
                  <a:pt x="3249" y="8880"/>
                </a:moveTo>
                <a:cubicBezTo>
                  <a:pt x="3216" y="8932"/>
                  <a:pt x="3177" y="8967"/>
                  <a:pt x="3150" y="9029"/>
                </a:cubicBezTo>
                <a:cubicBezTo>
                  <a:pt x="3100" y="9143"/>
                  <a:pt x="3070" y="9252"/>
                  <a:pt x="3051" y="9376"/>
                </a:cubicBezTo>
                <a:cubicBezTo>
                  <a:pt x="3043" y="9427"/>
                  <a:pt x="3103" y="9505"/>
                  <a:pt x="3125" y="9550"/>
                </a:cubicBezTo>
                <a:cubicBezTo>
                  <a:pt x="3153" y="9606"/>
                  <a:pt x="3189" y="9624"/>
                  <a:pt x="3225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Ink 10"/>
          <p:cNvSpPr/>
          <p:nvPr/>
        </p:nvSpPr>
        <p:spPr>
          <a:xfrm>
            <a:off x="1500120" y="3170160"/>
            <a:ext cx="250920" cy="366840"/>
          </a:xfrm>
          <a:custGeom>
            <a:avLst/>
            <a:gdLst/>
            <a:ahLst/>
            <a:rect l="l" t="t" r="r" b="b"/>
            <a:pathLst>
              <a:path w="696" h="1018">
                <a:moveTo>
                  <a:pt x="4589" y="9599"/>
                </a:moveTo>
                <a:cubicBezTo>
                  <a:pt x="4655" y="9599"/>
                  <a:pt x="4721" y="9599"/>
                  <a:pt x="4787" y="9599"/>
                </a:cubicBezTo>
              </a:path>
              <a:path w="696" h="1018">
                <a:moveTo>
                  <a:pt x="4713" y="9748"/>
                </a:moveTo>
                <a:cubicBezTo>
                  <a:pt x="4774" y="9760"/>
                  <a:pt x="4810" y="9802"/>
                  <a:pt x="4862" y="9823"/>
                </a:cubicBezTo>
              </a:path>
              <a:path w="696" h="1018">
                <a:moveTo>
                  <a:pt x="4167" y="8806"/>
                </a:moveTo>
                <a:cubicBezTo>
                  <a:pt x="4270" y="8887"/>
                  <a:pt x="4379" y="8967"/>
                  <a:pt x="4415" y="9103"/>
                </a:cubicBezTo>
                <a:cubicBezTo>
                  <a:pt x="4438" y="9192"/>
                  <a:pt x="4415" y="9317"/>
                  <a:pt x="4390" y="9401"/>
                </a:cubicBezTo>
                <a:cubicBezTo>
                  <a:pt x="4351" y="9533"/>
                  <a:pt x="4289" y="9630"/>
                  <a:pt x="4217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Ink 11"/>
          <p:cNvSpPr/>
          <p:nvPr/>
        </p:nvSpPr>
        <p:spPr>
          <a:xfrm>
            <a:off x="1982880" y="3276720"/>
            <a:ext cx="169920" cy="268200"/>
          </a:xfrm>
          <a:custGeom>
            <a:avLst/>
            <a:gdLst/>
            <a:ahLst/>
            <a:rect l="l" t="t" r="r" b="b"/>
            <a:pathLst>
              <a:path w="472" h="745">
                <a:moveTo>
                  <a:pt x="5507" y="9252"/>
                </a:moveTo>
                <a:cubicBezTo>
                  <a:pt x="5538" y="9228"/>
                  <a:pt x="5572" y="9165"/>
                  <a:pt x="5606" y="9153"/>
                </a:cubicBezTo>
                <a:cubicBezTo>
                  <a:pt x="5662" y="9153"/>
                  <a:pt x="5684" y="9148"/>
                  <a:pt x="5705" y="9103"/>
                </a:cubicBezTo>
                <a:cubicBezTo>
                  <a:pt x="5746" y="9165"/>
                  <a:pt x="5777" y="9176"/>
                  <a:pt x="5730" y="9252"/>
                </a:cubicBezTo>
                <a:cubicBezTo>
                  <a:pt x="5670" y="9349"/>
                  <a:pt x="5641" y="9336"/>
                  <a:pt x="5581" y="9401"/>
                </a:cubicBezTo>
                <a:cubicBezTo>
                  <a:pt x="5573" y="9418"/>
                  <a:pt x="5564" y="9434"/>
                  <a:pt x="5556" y="9451"/>
                </a:cubicBezTo>
                <a:cubicBezTo>
                  <a:pt x="5624" y="9451"/>
                  <a:pt x="5695" y="9438"/>
                  <a:pt x="5755" y="9475"/>
                </a:cubicBezTo>
                <a:cubicBezTo>
                  <a:pt x="5813" y="9511"/>
                  <a:pt x="5805" y="9552"/>
                  <a:pt x="5829" y="9599"/>
                </a:cubicBezTo>
                <a:cubicBezTo>
                  <a:pt x="5857" y="9655"/>
                  <a:pt x="5876" y="9715"/>
                  <a:pt x="5829" y="9773"/>
                </a:cubicBezTo>
                <a:cubicBezTo>
                  <a:pt x="5797" y="9812"/>
                  <a:pt x="5706" y="9853"/>
                  <a:pt x="5655" y="9847"/>
                </a:cubicBezTo>
                <a:cubicBezTo>
                  <a:pt x="5557" y="9836"/>
                  <a:pt x="5541" y="9835"/>
                  <a:pt x="5531" y="9748"/>
                </a:cubicBezTo>
              </a:path>
              <a:path w="472" h="745">
                <a:moveTo>
                  <a:pt x="5953" y="9773"/>
                </a:moveTo>
                <a:cubicBezTo>
                  <a:pt x="5961" y="9790"/>
                  <a:pt x="5970" y="9806"/>
                  <a:pt x="5978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Ink 12"/>
          <p:cNvSpPr/>
          <p:nvPr/>
        </p:nvSpPr>
        <p:spPr>
          <a:xfrm>
            <a:off x="2303640" y="3295800"/>
            <a:ext cx="39348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6400" y="9252"/>
                </a:moveTo>
                <a:cubicBezTo>
                  <a:pt x="6459" y="9215"/>
                  <a:pt x="6520" y="9136"/>
                  <a:pt x="6598" y="9153"/>
                </a:cubicBezTo>
                <a:cubicBezTo>
                  <a:pt x="6705" y="9177"/>
                  <a:pt x="6704" y="9245"/>
                  <a:pt x="6672" y="9327"/>
                </a:cubicBezTo>
                <a:cubicBezTo>
                  <a:pt x="6663" y="9350"/>
                  <a:pt x="6595" y="9434"/>
                  <a:pt x="6573" y="9451"/>
                </a:cubicBezTo>
                <a:cubicBezTo>
                  <a:pt x="6553" y="9466"/>
                  <a:pt x="6523" y="9476"/>
                  <a:pt x="6499" y="9500"/>
                </a:cubicBezTo>
                <a:cubicBezTo>
                  <a:pt x="6568" y="9458"/>
                  <a:pt x="6600" y="9489"/>
                  <a:pt x="6672" y="9525"/>
                </a:cubicBezTo>
                <a:cubicBezTo>
                  <a:pt x="6719" y="9549"/>
                  <a:pt x="6786" y="9616"/>
                  <a:pt x="6796" y="9674"/>
                </a:cubicBezTo>
                <a:cubicBezTo>
                  <a:pt x="6804" y="9719"/>
                  <a:pt x="6782" y="9818"/>
                  <a:pt x="6747" y="9847"/>
                </a:cubicBezTo>
                <a:cubicBezTo>
                  <a:pt x="6673" y="9909"/>
                  <a:pt x="6637" y="9897"/>
                  <a:pt x="6548" y="9897"/>
                </a:cubicBezTo>
                <a:cubicBezTo>
                  <a:pt x="6470" y="9897"/>
                  <a:pt x="6492" y="9911"/>
                  <a:pt x="6449" y="9847"/>
                </a:cubicBezTo>
              </a:path>
              <a:path w="1092" h="745">
                <a:moveTo>
                  <a:pt x="7094" y="9153"/>
                </a:moveTo>
                <a:cubicBezTo>
                  <a:pt x="7111" y="9178"/>
                  <a:pt x="7091" y="9267"/>
                  <a:pt x="7069" y="9327"/>
                </a:cubicBezTo>
                <a:cubicBezTo>
                  <a:pt x="7043" y="9397"/>
                  <a:pt x="6998" y="9455"/>
                  <a:pt x="6995" y="9525"/>
                </a:cubicBezTo>
                <a:cubicBezTo>
                  <a:pt x="6992" y="9581"/>
                  <a:pt x="6978" y="9715"/>
                  <a:pt x="7045" y="9748"/>
                </a:cubicBezTo>
                <a:cubicBezTo>
                  <a:pt x="7094" y="9773"/>
                  <a:pt x="7162" y="9817"/>
                  <a:pt x="7218" y="9823"/>
                </a:cubicBezTo>
                <a:cubicBezTo>
                  <a:pt x="7307" y="9833"/>
                  <a:pt x="7340" y="9830"/>
                  <a:pt x="7392" y="9773"/>
                </a:cubicBezTo>
                <a:cubicBezTo>
                  <a:pt x="7435" y="9726"/>
                  <a:pt x="7478" y="9663"/>
                  <a:pt x="7491" y="9599"/>
                </a:cubicBezTo>
                <a:cubicBezTo>
                  <a:pt x="7509" y="9510"/>
                  <a:pt x="7484" y="9405"/>
                  <a:pt x="7441" y="9327"/>
                </a:cubicBezTo>
                <a:cubicBezTo>
                  <a:pt x="7395" y="9243"/>
                  <a:pt x="7373" y="9227"/>
                  <a:pt x="7293" y="9178"/>
                </a:cubicBezTo>
                <a:cubicBezTo>
                  <a:pt x="7236" y="9143"/>
                  <a:pt x="7184" y="9153"/>
                  <a:pt x="7119" y="9153"/>
                </a:cubicBezTo>
                <a:cubicBezTo>
                  <a:pt x="7111" y="9153"/>
                  <a:pt x="7102" y="9153"/>
                  <a:pt x="7094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Ink 13"/>
          <p:cNvSpPr/>
          <p:nvPr/>
        </p:nvSpPr>
        <p:spPr>
          <a:xfrm>
            <a:off x="2571840" y="3983040"/>
            <a:ext cx="13500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7243" y="11088"/>
                </a:moveTo>
                <a:cubicBezTo>
                  <a:pt x="7303" y="11052"/>
                  <a:pt x="7366" y="11063"/>
                  <a:pt x="7441" y="11063"/>
                </a:cubicBezTo>
                <a:cubicBezTo>
                  <a:pt x="7466" y="11063"/>
                  <a:pt x="7491" y="11063"/>
                  <a:pt x="7516" y="11063"/>
                </a:cubicBezTo>
              </a:path>
              <a:path w="373" h="224">
                <a:moveTo>
                  <a:pt x="7144" y="11261"/>
                </a:moveTo>
                <a:cubicBezTo>
                  <a:pt x="7214" y="11297"/>
                  <a:pt x="7254" y="11300"/>
                  <a:pt x="7317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Ink 14"/>
          <p:cNvSpPr/>
          <p:nvPr/>
        </p:nvSpPr>
        <p:spPr>
          <a:xfrm>
            <a:off x="2857680" y="3938760"/>
            <a:ext cx="17280" cy="258480"/>
          </a:xfrm>
          <a:custGeom>
            <a:avLst/>
            <a:gdLst/>
            <a:ahLst/>
            <a:rect l="l" t="t" r="r" b="b"/>
            <a:pathLst>
              <a:path w="50" h="720">
                <a:moveTo>
                  <a:pt x="7987" y="10939"/>
                </a:moveTo>
                <a:cubicBezTo>
                  <a:pt x="7973" y="11105"/>
                  <a:pt x="7945" y="11272"/>
                  <a:pt x="7938" y="11435"/>
                </a:cubicBezTo>
                <a:cubicBezTo>
                  <a:pt x="7936" y="11487"/>
                  <a:pt x="7913" y="11627"/>
                  <a:pt x="7962" y="11658"/>
                </a:cubicBezTo>
                <a:cubicBezTo>
                  <a:pt x="7970" y="11658"/>
                  <a:pt x="7979" y="11658"/>
                  <a:pt x="7987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Ink 15"/>
          <p:cNvSpPr/>
          <p:nvPr/>
        </p:nvSpPr>
        <p:spPr>
          <a:xfrm>
            <a:off x="3054240" y="3875040"/>
            <a:ext cx="9720" cy="331920"/>
          </a:xfrm>
          <a:custGeom>
            <a:avLst/>
            <a:gdLst/>
            <a:ahLst/>
            <a:rect l="l" t="t" r="r" b="b"/>
            <a:pathLst>
              <a:path w="26" h="919">
                <a:moveTo>
                  <a:pt x="8483" y="10765"/>
                </a:moveTo>
                <a:cubicBezTo>
                  <a:pt x="8503" y="10927"/>
                  <a:pt x="8500" y="11012"/>
                  <a:pt x="8483" y="11162"/>
                </a:cubicBezTo>
                <a:cubicBezTo>
                  <a:pt x="8466" y="11311"/>
                  <a:pt x="8491" y="11468"/>
                  <a:pt x="8508" y="11609"/>
                </a:cubicBezTo>
                <a:cubicBezTo>
                  <a:pt x="8508" y="11634"/>
                  <a:pt x="8508" y="11658"/>
                  <a:pt x="8508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atural Base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 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value is approximately 2.718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cula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5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Ink 4"/>
          <p:cNvSpPr/>
          <p:nvPr/>
        </p:nvSpPr>
        <p:spPr>
          <a:xfrm>
            <a:off x="1731960" y="2044800"/>
            <a:ext cx="696960" cy="312480"/>
          </a:xfrm>
          <a:custGeom>
            <a:avLst/>
            <a:gdLst/>
            <a:ahLst/>
            <a:rect l="l" t="t" r="r" b="b"/>
            <a:pathLst>
              <a:path w="1936" h="869">
                <a:moveTo>
                  <a:pt x="4812" y="6052"/>
                </a:moveTo>
                <a:cubicBezTo>
                  <a:pt x="4963" y="6052"/>
                  <a:pt x="5169" y="6013"/>
                  <a:pt x="5308" y="6028"/>
                </a:cubicBezTo>
                <a:cubicBezTo>
                  <a:pt x="5356" y="6051"/>
                  <a:pt x="5371" y="6059"/>
                  <a:pt x="5407" y="6052"/>
                </a:cubicBezTo>
              </a:path>
              <a:path w="1936" h="869">
                <a:moveTo>
                  <a:pt x="4837" y="6251"/>
                </a:moveTo>
                <a:cubicBezTo>
                  <a:pt x="4916" y="6251"/>
                  <a:pt x="4983" y="6272"/>
                  <a:pt x="5060" y="6276"/>
                </a:cubicBezTo>
                <a:cubicBezTo>
                  <a:pt x="5134" y="6280"/>
                  <a:pt x="5209" y="6276"/>
                  <a:pt x="5283" y="6276"/>
                </a:cubicBezTo>
              </a:path>
              <a:path w="1936" h="869">
                <a:moveTo>
                  <a:pt x="5705" y="5829"/>
                </a:moveTo>
                <a:cubicBezTo>
                  <a:pt x="5671" y="5919"/>
                  <a:pt x="5676" y="6010"/>
                  <a:pt x="5655" y="6102"/>
                </a:cubicBezTo>
                <a:cubicBezTo>
                  <a:pt x="5636" y="6185"/>
                  <a:pt x="5611" y="6267"/>
                  <a:pt x="5606" y="6350"/>
                </a:cubicBezTo>
                <a:cubicBezTo>
                  <a:pt x="5602" y="6418"/>
                  <a:pt x="5566" y="6584"/>
                  <a:pt x="5631" y="6499"/>
                </a:cubicBezTo>
              </a:path>
              <a:path w="1936" h="869">
                <a:moveTo>
                  <a:pt x="5953" y="5779"/>
                </a:moveTo>
                <a:cubicBezTo>
                  <a:pt x="5953" y="5882"/>
                  <a:pt x="5939" y="5982"/>
                  <a:pt x="5928" y="6077"/>
                </a:cubicBezTo>
                <a:cubicBezTo>
                  <a:pt x="5922" y="6131"/>
                  <a:pt x="5893" y="6251"/>
                  <a:pt x="5904" y="6300"/>
                </a:cubicBezTo>
                <a:cubicBezTo>
                  <a:pt x="5916" y="6357"/>
                  <a:pt x="5929" y="6461"/>
                  <a:pt x="5978" y="6499"/>
                </a:cubicBezTo>
                <a:cubicBezTo>
                  <a:pt x="6062" y="6565"/>
                  <a:pt x="6157" y="6501"/>
                  <a:pt x="6226" y="6449"/>
                </a:cubicBezTo>
                <a:cubicBezTo>
                  <a:pt x="6275" y="6412"/>
                  <a:pt x="6292" y="6334"/>
                  <a:pt x="6276" y="6276"/>
                </a:cubicBezTo>
                <a:cubicBezTo>
                  <a:pt x="6263" y="6231"/>
                  <a:pt x="6232" y="6207"/>
                  <a:pt x="6201" y="6176"/>
                </a:cubicBezTo>
                <a:cubicBezTo>
                  <a:pt x="6160" y="6228"/>
                  <a:pt x="6115" y="6283"/>
                  <a:pt x="6102" y="6350"/>
                </a:cubicBezTo>
                <a:cubicBezTo>
                  <a:pt x="6079" y="6463"/>
                  <a:pt x="6088" y="6513"/>
                  <a:pt x="6176" y="6424"/>
                </a:cubicBezTo>
              </a:path>
              <a:path w="1936" h="869">
                <a:moveTo>
                  <a:pt x="6474" y="5879"/>
                </a:moveTo>
                <a:cubicBezTo>
                  <a:pt x="6467" y="5952"/>
                  <a:pt x="6436" y="5991"/>
                  <a:pt x="6424" y="6052"/>
                </a:cubicBezTo>
                <a:cubicBezTo>
                  <a:pt x="6413" y="6109"/>
                  <a:pt x="6468" y="6166"/>
                  <a:pt x="6524" y="6176"/>
                </a:cubicBezTo>
                <a:cubicBezTo>
                  <a:pt x="6602" y="6190"/>
                  <a:pt x="6673" y="6164"/>
                  <a:pt x="6747" y="6152"/>
                </a:cubicBezTo>
              </a:path>
              <a:path w="1936" h="869">
                <a:moveTo>
                  <a:pt x="6747" y="5680"/>
                </a:moveTo>
                <a:cubicBezTo>
                  <a:pt x="6747" y="5835"/>
                  <a:pt x="6726" y="5975"/>
                  <a:pt x="6722" y="6127"/>
                </a:cubicBezTo>
                <a:cubicBezTo>
                  <a:pt x="6719" y="6247"/>
                  <a:pt x="6701" y="6357"/>
                  <a:pt x="6697" y="6474"/>
                </a:cubicBezTo>
                <a:cubicBezTo>
                  <a:pt x="6697" y="6499"/>
                  <a:pt x="6697" y="6523"/>
                  <a:pt x="6697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Ink 5"/>
          <p:cNvSpPr/>
          <p:nvPr/>
        </p:nvSpPr>
        <p:spPr>
          <a:xfrm>
            <a:off x="1473120" y="2813040"/>
            <a:ext cx="13500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4142" y="7813"/>
                </a:moveTo>
                <a:cubicBezTo>
                  <a:pt x="4250" y="7813"/>
                  <a:pt x="4357" y="7813"/>
                  <a:pt x="4465" y="7813"/>
                </a:cubicBezTo>
              </a:path>
              <a:path w="373" h="299">
                <a:moveTo>
                  <a:pt x="4093" y="7987"/>
                </a:moveTo>
                <a:cubicBezTo>
                  <a:pt x="4182" y="8024"/>
                  <a:pt x="4267" y="8052"/>
                  <a:pt x="4341" y="81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Ink 6"/>
          <p:cNvSpPr/>
          <p:nvPr/>
        </p:nvSpPr>
        <p:spPr>
          <a:xfrm>
            <a:off x="1963800" y="2678040"/>
            <a:ext cx="814320" cy="322200"/>
          </a:xfrm>
          <a:custGeom>
            <a:avLst/>
            <a:gdLst/>
            <a:ahLst/>
            <a:rect l="l" t="t" r="r" b="b"/>
            <a:pathLst>
              <a:path w="2258" h="894">
                <a:moveTo>
                  <a:pt x="5507" y="8334"/>
                </a:moveTo>
                <a:cubicBezTo>
                  <a:pt x="5482" y="8334"/>
                  <a:pt x="5474" y="8334"/>
                  <a:pt x="5457" y="8334"/>
                </a:cubicBezTo>
              </a:path>
              <a:path w="2258" h="894">
                <a:moveTo>
                  <a:pt x="5854" y="7640"/>
                </a:moveTo>
                <a:cubicBezTo>
                  <a:pt x="5797" y="7696"/>
                  <a:pt x="5787" y="7739"/>
                  <a:pt x="5755" y="7813"/>
                </a:cubicBezTo>
                <a:cubicBezTo>
                  <a:pt x="5722" y="7891"/>
                  <a:pt x="5705" y="7927"/>
                  <a:pt x="5705" y="8012"/>
                </a:cubicBezTo>
                <a:cubicBezTo>
                  <a:pt x="5705" y="8073"/>
                  <a:pt x="5705" y="8157"/>
                  <a:pt x="5730" y="8210"/>
                </a:cubicBezTo>
                <a:cubicBezTo>
                  <a:pt x="5762" y="8279"/>
                  <a:pt x="5842" y="8283"/>
                  <a:pt x="5904" y="8285"/>
                </a:cubicBezTo>
                <a:cubicBezTo>
                  <a:pt x="5969" y="8288"/>
                  <a:pt x="6057" y="8262"/>
                  <a:pt x="6102" y="8210"/>
                </a:cubicBezTo>
                <a:cubicBezTo>
                  <a:pt x="6152" y="8152"/>
                  <a:pt x="6198" y="8035"/>
                  <a:pt x="6201" y="7962"/>
                </a:cubicBezTo>
                <a:cubicBezTo>
                  <a:pt x="6204" y="7889"/>
                  <a:pt x="6215" y="7803"/>
                  <a:pt x="6176" y="7739"/>
                </a:cubicBezTo>
                <a:cubicBezTo>
                  <a:pt x="6120" y="7645"/>
                  <a:pt x="6060" y="7645"/>
                  <a:pt x="5953" y="7640"/>
                </a:cubicBezTo>
                <a:cubicBezTo>
                  <a:pt x="5895" y="7637"/>
                  <a:pt x="5848" y="7675"/>
                  <a:pt x="5804" y="7714"/>
                </a:cubicBezTo>
                <a:cubicBezTo>
                  <a:pt x="5748" y="7764"/>
                  <a:pt x="5789" y="7818"/>
                  <a:pt x="5829" y="7863"/>
                </a:cubicBezTo>
                <a:cubicBezTo>
                  <a:pt x="5837" y="7871"/>
                  <a:pt x="5846" y="7880"/>
                  <a:pt x="5854" y="7888"/>
                </a:cubicBezTo>
              </a:path>
              <a:path w="2258" h="894">
                <a:moveTo>
                  <a:pt x="6474" y="7541"/>
                </a:moveTo>
                <a:cubicBezTo>
                  <a:pt x="6465" y="7651"/>
                  <a:pt x="6429" y="7747"/>
                  <a:pt x="6424" y="7863"/>
                </a:cubicBezTo>
                <a:cubicBezTo>
                  <a:pt x="6420" y="7944"/>
                  <a:pt x="6424" y="8165"/>
                  <a:pt x="6424" y="8161"/>
                </a:cubicBezTo>
              </a:path>
              <a:path w="2258" h="894">
                <a:moveTo>
                  <a:pt x="6945" y="7565"/>
                </a:moveTo>
                <a:cubicBezTo>
                  <a:pt x="6989" y="7522"/>
                  <a:pt x="6986" y="7528"/>
                  <a:pt x="6995" y="7466"/>
                </a:cubicBezTo>
                <a:cubicBezTo>
                  <a:pt x="6962" y="7446"/>
                  <a:pt x="6892" y="7422"/>
                  <a:pt x="6846" y="7441"/>
                </a:cubicBezTo>
                <a:cubicBezTo>
                  <a:pt x="6820" y="7452"/>
                  <a:pt x="6732" y="7508"/>
                  <a:pt x="6722" y="7541"/>
                </a:cubicBezTo>
                <a:cubicBezTo>
                  <a:pt x="6699" y="7621"/>
                  <a:pt x="6785" y="7707"/>
                  <a:pt x="6821" y="7764"/>
                </a:cubicBezTo>
                <a:cubicBezTo>
                  <a:pt x="6868" y="7838"/>
                  <a:pt x="6950" y="7922"/>
                  <a:pt x="6970" y="8012"/>
                </a:cubicBezTo>
                <a:cubicBezTo>
                  <a:pt x="6985" y="8081"/>
                  <a:pt x="7006" y="8127"/>
                  <a:pt x="6970" y="8186"/>
                </a:cubicBezTo>
                <a:cubicBezTo>
                  <a:pt x="6909" y="8177"/>
                  <a:pt x="6842" y="8157"/>
                  <a:pt x="6821" y="8086"/>
                </a:cubicBezTo>
                <a:cubicBezTo>
                  <a:pt x="6800" y="8016"/>
                  <a:pt x="6827" y="7941"/>
                  <a:pt x="6871" y="7888"/>
                </a:cubicBezTo>
                <a:cubicBezTo>
                  <a:pt x="6919" y="7830"/>
                  <a:pt x="6956" y="7778"/>
                  <a:pt x="7020" y="7739"/>
                </a:cubicBezTo>
                <a:cubicBezTo>
                  <a:pt x="7087" y="7698"/>
                  <a:pt x="7098" y="7651"/>
                  <a:pt x="7144" y="7590"/>
                </a:cubicBezTo>
                <a:cubicBezTo>
                  <a:pt x="7166" y="7568"/>
                  <a:pt x="7175" y="7563"/>
                  <a:pt x="7169" y="7541"/>
                </a:cubicBezTo>
              </a:path>
              <a:path w="2258" h="894">
                <a:moveTo>
                  <a:pt x="7268" y="7466"/>
                </a:moveTo>
                <a:cubicBezTo>
                  <a:pt x="7351" y="7435"/>
                  <a:pt x="7430" y="7425"/>
                  <a:pt x="7516" y="7466"/>
                </a:cubicBezTo>
                <a:cubicBezTo>
                  <a:pt x="7566" y="7489"/>
                  <a:pt x="7587" y="7544"/>
                  <a:pt x="7590" y="7590"/>
                </a:cubicBezTo>
                <a:cubicBezTo>
                  <a:pt x="7595" y="7671"/>
                  <a:pt x="7543" y="7667"/>
                  <a:pt x="7491" y="7714"/>
                </a:cubicBezTo>
                <a:cubicBezTo>
                  <a:pt x="7453" y="7748"/>
                  <a:pt x="7413" y="7766"/>
                  <a:pt x="7367" y="7789"/>
                </a:cubicBezTo>
                <a:cubicBezTo>
                  <a:pt x="7445" y="7789"/>
                  <a:pt x="7553" y="7769"/>
                  <a:pt x="7615" y="7813"/>
                </a:cubicBezTo>
                <a:cubicBezTo>
                  <a:pt x="7652" y="7839"/>
                  <a:pt x="7704" y="7894"/>
                  <a:pt x="7714" y="7938"/>
                </a:cubicBezTo>
                <a:cubicBezTo>
                  <a:pt x="7734" y="8022"/>
                  <a:pt x="7711" y="8115"/>
                  <a:pt x="7615" y="8136"/>
                </a:cubicBezTo>
                <a:cubicBezTo>
                  <a:pt x="7527" y="8155"/>
                  <a:pt x="7504" y="8140"/>
                  <a:pt x="7417" y="8136"/>
                </a:cubicBezTo>
                <a:cubicBezTo>
                  <a:pt x="7351" y="8133"/>
                  <a:pt x="7284" y="8136"/>
                  <a:pt x="7218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Ink 7"/>
          <p:cNvSpPr/>
          <p:nvPr/>
        </p:nvSpPr>
        <p:spPr>
          <a:xfrm>
            <a:off x="1687680" y="3402000"/>
            <a:ext cx="6336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4688" y="9451"/>
                </a:moveTo>
                <a:cubicBezTo>
                  <a:pt x="4756" y="9469"/>
                  <a:pt x="4793" y="9475"/>
                  <a:pt x="4862" y="9475"/>
                </a:cubicBezTo>
              </a:path>
              <a:path w="175" h="323">
                <a:moveTo>
                  <a:pt x="4713" y="9748"/>
                </a:moveTo>
                <a:cubicBezTo>
                  <a:pt x="4772" y="9770"/>
                  <a:pt x="4798" y="9773"/>
                  <a:pt x="4862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Ink 8"/>
          <p:cNvSpPr/>
          <p:nvPr/>
        </p:nvSpPr>
        <p:spPr>
          <a:xfrm>
            <a:off x="2133720" y="3330720"/>
            <a:ext cx="19080" cy="393480"/>
          </a:xfrm>
          <a:custGeom>
            <a:avLst/>
            <a:gdLst/>
            <a:ahLst/>
            <a:rect l="l" t="t" r="r" b="b"/>
            <a:pathLst>
              <a:path w="51" h="1093">
                <a:moveTo>
                  <a:pt x="5978" y="9252"/>
                </a:moveTo>
                <a:cubicBezTo>
                  <a:pt x="5978" y="9336"/>
                  <a:pt x="5963" y="9396"/>
                  <a:pt x="5953" y="9475"/>
                </a:cubicBezTo>
                <a:cubicBezTo>
                  <a:pt x="5939" y="9590"/>
                  <a:pt x="5932" y="9708"/>
                  <a:pt x="5928" y="9823"/>
                </a:cubicBezTo>
                <a:cubicBezTo>
                  <a:pt x="5925" y="9929"/>
                  <a:pt x="5935" y="10018"/>
                  <a:pt x="5953" y="10120"/>
                </a:cubicBezTo>
                <a:cubicBezTo>
                  <a:pt x="5967" y="10197"/>
                  <a:pt x="5958" y="10266"/>
                  <a:pt x="5978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Ink 9"/>
          <p:cNvSpPr/>
          <p:nvPr/>
        </p:nvSpPr>
        <p:spPr>
          <a:xfrm>
            <a:off x="2268360" y="364320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6300" y="10120"/>
                </a:moveTo>
                <a:cubicBezTo>
                  <a:pt x="6308" y="10120"/>
                  <a:pt x="6317" y="10120"/>
                  <a:pt x="6325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Ink 10"/>
          <p:cNvSpPr/>
          <p:nvPr/>
        </p:nvSpPr>
        <p:spPr>
          <a:xfrm>
            <a:off x="2394000" y="3375000"/>
            <a:ext cx="768240" cy="357120"/>
          </a:xfrm>
          <a:custGeom>
            <a:avLst/>
            <a:gdLst/>
            <a:ahLst/>
            <a:rect l="l" t="t" r="r" b="b"/>
            <a:pathLst>
              <a:path w="2134" h="993">
                <a:moveTo>
                  <a:pt x="6722" y="9451"/>
                </a:moveTo>
                <a:cubicBezTo>
                  <a:pt x="6722" y="9523"/>
                  <a:pt x="6712" y="9605"/>
                  <a:pt x="6697" y="9674"/>
                </a:cubicBezTo>
                <a:cubicBezTo>
                  <a:pt x="6673" y="9783"/>
                  <a:pt x="6648" y="9857"/>
                  <a:pt x="6648" y="9971"/>
                </a:cubicBezTo>
                <a:cubicBezTo>
                  <a:pt x="6648" y="10055"/>
                  <a:pt x="6663" y="10152"/>
                  <a:pt x="6697" y="10220"/>
                </a:cubicBezTo>
                <a:cubicBezTo>
                  <a:pt x="6725" y="10275"/>
                  <a:pt x="6804" y="10368"/>
                  <a:pt x="6871" y="10368"/>
                </a:cubicBezTo>
                <a:cubicBezTo>
                  <a:pt x="6922" y="10368"/>
                  <a:pt x="6983" y="10293"/>
                  <a:pt x="6995" y="10269"/>
                </a:cubicBezTo>
                <a:cubicBezTo>
                  <a:pt x="7023" y="10213"/>
                  <a:pt x="7040" y="10102"/>
                  <a:pt x="6995" y="10046"/>
                </a:cubicBezTo>
                <a:cubicBezTo>
                  <a:pt x="6947" y="9986"/>
                  <a:pt x="6886" y="10101"/>
                  <a:pt x="6871" y="10120"/>
                </a:cubicBezTo>
                <a:cubicBezTo>
                  <a:pt x="6839" y="10162"/>
                  <a:pt x="6786" y="10217"/>
                  <a:pt x="6846" y="10269"/>
                </a:cubicBezTo>
                <a:cubicBezTo>
                  <a:pt x="6854" y="10269"/>
                  <a:pt x="6863" y="10269"/>
                  <a:pt x="6871" y="10269"/>
                </a:cubicBezTo>
              </a:path>
              <a:path w="2134" h="993">
                <a:moveTo>
                  <a:pt x="7218" y="9550"/>
                </a:moveTo>
                <a:cubicBezTo>
                  <a:pt x="7204" y="9607"/>
                  <a:pt x="7139" y="9756"/>
                  <a:pt x="7169" y="9823"/>
                </a:cubicBezTo>
                <a:cubicBezTo>
                  <a:pt x="7182" y="9853"/>
                  <a:pt x="7234" y="9914"/>
                  <a:pt x="7293" y="9922"/>
                </a:cubicBezTo>
                <a:cubicBezTo>
                  <a:pt x="7393" y="9936"/>
                  <a:pt x="7420" y="9928"/>
                  <a:pt x="7466" y="9847"/>
                </a:cubicBezTo>
              </a:path>
              <a:path w="2134" h="993">
                <a:moveTo>
                  <a:pt x="7491" y="9376"/>
                </a:moveTo>
                <a:cubicBezTo>
                  <a:pt x="7491" y="9642"/>
                  <a:pt x="7478" y="9970"/>
                  <a:pt x="7516" y="10195"/>
                </a:cubicBezTo>
                <a:cubicBezTo>
                  <a:pt x="7516" y="10253"/>
                  <a:pt x="7500" y="10277"/>
                  <a:pt x="7541" y="10269"/>
                </a:cubicBezTo>
              </a:path>
              <a:path w="2134" h="993">
                <a:moveTo>
                  <a:pt x="8037" y="9475"/>
                </a:moveTo>
                <a:cubicBezTo>
                  <a:pt x="7969" y="9475"/>
                  <a:pt x="7874" y="9472"/>
                  <a:pt x="7813" y="9500"/>
                </a:cubicBezTo>
                <a:cubicBezTo>
                  <a:pt x="7747" y="9531"/>
                  <a:pt x="7726" y="9615"/>
                  <a:pt x="7764" y="9674"/>
                </a:cubicBezTo>
                <a:cubicBezTo>
                  <a:pt x="7787" y="9711"/>
                  <a:pt x="7850" y="9794"/>
                  <a:pt x="7888" y="9847"/>
                </a:cubicBezTo>
                <a:cubicBezTo>
                  <a:pt x="7943" y="9924"/>
                  <a:pt x="7989" y="10027"/>
                  <a:pt x="8012" y="10120"/>
                </a:cubicBezTo>
                <a:cubicBezTo>
                  <a:pt x="8028" y="10182"/>
                  <a:pt x="7991" y="10219"/>
                  <a:pt x="7962" y="10269"/>
                </a:cubicBezTo>
                <a:cubicBezTo>
                  <a:pt x="7879" y="10186"/>
                  <a:pt x="7868" y="10170"/>
                  <a:pt x="7863" y="10046"/>
                </a:cubicBezTo>
                <a:cubicBezTo>
                  <a:pt x="7860" y="9983"/>
                  <a:pt x="7862" y="9954"/>
                  <a:pt x="7888" y="9897"/>
                </a:cubicBezTo>
                <a:cubicBezTo>
                  <a:pt x="7925" y="9815"/>
                  <a:pt x="7991" y="9750"/>
                  <a:pt x="8037" y="9674"/>
                </a:cubicBezTo>
                <a:cubicBezTo>
                  <a:pt x="8072" y="9604"/>
                  <a:pt x="8094" y="9569"/>
                  <a:pt x="8136" y="9525"/>
                </a:cubicBezTo>
              </a:path>
              <a:path w="2134" h="993">
                <a:moveTo>
                  <a:pt x="8260" y="9500"/>
                </a:moveTo>
                <a:cubicBezTo>
                  <a:pt x="8268" y="9508"/>
                  <a:pt x="8277" y="9517"/>
                  <a:pt x="8285" y="9525"/>
                </a:cubicBezTo>
                <a:cubicBezTo>
                  <a:pt x="8314" y="9477"/>
                  <a:pt x="8315" y="9425"/>
                  <a:pt x="8384" y="9401"/>
                </a:cubicBezTo>
                <a:cubicBezTo>
                  <a:pt x="8485" y="9365"/>
                  <a:pt x="8582" y="9432"/>
                  <a:pt x="8657" y="9451"/>
                </a:cubicBezTo>
                <a:cubicBezTo>
                  <a:pt x="8768" y="9479"/>
                  <a:pt x="8770" y="9423"/>
                  <a:pt x="8756" y="9550"/>
                </a:cubicBezTo>
                <a:cubicBezTo>
                  <a:pt x="8746" y="9641"/>
                  <a:pt x="8741" y="9734"/>
                  <a:pt x="8731" y="9823"/>
                </a:cubicBezTo>
                <a:cubicBezTo>
                  <a:pt x="8719" y="9934"/>
                  <a:pt x="8752" y="10035"/>
                  <a:pt x="8756" y="10145"/>
                </a:cubicBezTo>
                <a:cubicBezTo>
                  <a:pt x="8758" y="10219"/>
                  <a:pt x="8756" y="10294"/>
                  <a:pt x="8756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se functions are equ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(x) 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x+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(x) = 64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Ink 4"/>
          <p:cNvSpPr/>
          <p:nvPr/>
        </p:nvSpPr>
        <p:spPr>
          <a:xfrm>
            <a:off x="2197080" y="2589120"/>
            <a:ext cx="955800" cy="546120"/>
          </a:xfrm>
          <a:custGeom>
            <a:avLst/>
            <a:gdLst/>
            <a:ahLst/>
            <a:rect l="l" t="t" r="r" b="b"/>
            <a:pathLst>
              <a:path w="2655" h="1514">
                <a:moveTo>
                  <a:pt x="6846" y="7193"/>
                </a:moveTo>
                <a:cubicBezTo>
                  <a:pt x="6812" y="7262"/>
                  <a:pt x="6795" y="7324"/>
                  <a:pt x="6772" y="7392"/>
                </a:cubicBezTo>
                <a:cubicBezTo>
                  <a:pt x="6746" y="7469"/>
                  <a:pt x="6701" y="7533"/>
                  <a:pt x="6697" y="7615"/>
                </a:cubicBezTo>
                <a:cubicBezTo>
                  <a:pt x="6694" y="7685"/>
                  <a:pt x="6718" y="7749"/>
                  <a:pt x="6747" y="7813"/>
                </a:cubicBezTo>
                <a:cubicBezTo>
                  <a:pt x="6777" y="7873"/>
                  <a:pt x="6791" y="7899"/>
                  <a:pt x="6821" y="7938"/>
                </a:cubicBezTo>
              </a:path>
              <a:path w="2655" h="1514">
                <a:moveTo>
                  <a:pt x="8607" y="7317"/>
                </a:moveTo>
                <a:cubicBezTo>
                  <a:pt x="8709" y="7427"/>
                  <a:pt x="8750" y="7465"/>
                  <a:pt x="8756" y="7615"/>
                </a:cubicBezTo>
                <a:cubicBezTo>
                  <a:pt x="8759" y="7702"/>
                  <a:pt x="8756" y="7765"/>
                  <a:pt x="8706" y="7838"/>
                </a:cubicBezTo>
                <a:cubicBezTo>
                  <a:pt x="8666" y="7897"/>
                  <a:pt x="8603" y="7958"/>
                  <a:pt x="8558" y="8012"/>
                </a:cubicBezTo>
                <a:cubicBezTo>
                  <a:pt x="8508" y="8062"/>
                  <a:pt x="8492" y="8078"/>
                  <a:pt x="8458" y="8111"/>
                </a:cubicBezTo>
              </a:path>
              <a:path w="2655" h="1514">
                <a:moveTo>
                  <a:pt x="6152" y="7441"/>
                </a:moveTo>
                <a:cubicBezTo>
                  <a:pt x="6152" y="7560"/>
                  <a:pt x="6173" y="7670"/>
                  <a:pt x="6176" y="7789"/>
                </a:cubicBezTo>
                <a:cubicBezTo>
                  <a:pt x="6180" y="7950"/>
                  <a:pt x="6141" y="8102"/>
                  <a:pt x="6127" y="8260"/>
                </a:cubicBezTo>
                <a:cubicBezTo>
                  <a:pt x="6119" y="8349"/>
                  <a:pt x="6075" y="8468"/>
                  <a:pt x="6102" y="8558"/>
                </a:cubicBezTo>
                <a:cubicBezTo>
                  <a:pt x="6118" y="8613"/>
                  <a:pt x="6127" y="8634"/>
                  <a:pt x="6127" y="8706"/>
                </a:cubicBezTo>
                <a:cubicBezTo>
                  <a:pt x="6127" y="8608"/>
                  <a:pt x="6128" y="8529"/>
                  <a:pt x="6152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Ink 5"/>
          <p:cNvSpPr/>
          <p:nvPr/>
        </p:nvSpPr>
        <p:spPr>
          <a:xfrm>
            <a:off x="2374920" y="3751200"/>
            <a:ext cx="1482840" cy="1660680"/>
          </a:xfrm>
          <a:custGeom>
            <a:avLst/>
            <a:gdLst/>
            <a:ahLst/>
            <a:rect l="l" t="t" r="r" b="b"/>
            <a:pathLst>
              <a:path w="4119" h="4615">
                <a:moveTo>
                  <a:pt x="6697" y="10964"/>
                </a:moveTo>
                <a:cubicBezTo>
                  <a:pt x="6746" y="10915"/>
                  <a:pt x="6792" y="10880"/>
                  <a:pt x="6846" y="10840"/>
                </a:cubicBezTo>
                <a:cubicBezTo>
                  <a:pt x="6893" y="10805"/>
                  <a:pt x="6931" y="10795"/>
                  <a:pt x="6970" y="10815"/>
                </a:cubicBezTo>
                <a:cubicBezTo>
                  <a:pt x="7041" y="10850"/>
                  <a:pt x="7056" y="10886"/>
                  <a:pt x="7069" y="10964"/>
                </a:cubicBezTo>
                <a:cubicBezTo>
                  <a:pt x="7082" y="11045"/>
                  <a:pt x="7102" y="11157"/>
                  <a:pt x="7094" y="11237"/>
                </a:cubicBezTo>
                <a:cubicBezTo>
                  <a:pt x="7081" y="11371"/>
                  <a:pt x="7056" y="11482"/>
                  <a:pt x="7020" y="11609"/>
                </a:cubicBezTo>
                <a:cubicBezTo>
                  <a:pt x="6987" y="11726"/>
                  <a:pt x="6955" y="11802"/>
                  <a:pt x="6896" y="11906"/>
                </a:cubicBezTo>
                <a:cubicBezTo>
                  <a:pt x="6870" y="11953"/>
                  <a:pt x="6827" y="12015"/>
                  <a:pt x="6772" y="12030"/>
                </a:cubicBezTo>
                <a:cubicBezTo>
                  <a:pt x="6707" y="12047"/>
                  <a:pt x="6663" y="11996"/>
                  <a:pt x="6623" y="11956"/>
                </a:cubicBezTo>
                <a:cubicBezTo>
                  <a:pt x="6578" y="11911"/>
                  <a:pt x="6598" y="11818"/>
                  <a:pt x="6598" y="11757"/>
                </a:cubicBezTo>
                <a:cubicBezTo>
                  <a:pt x="6598" y="11681"/>
                  <a:pt x="6622" y="11616"/>
                  <a:pt x="6672" y="11559"/>
                </a:cubicBezTo>
                <a:cubicBezTo>
                  <a:pt x="6716" y="11510"/>
                  <a:pt x="6785" y="11534"/>
                  <a:pt x="6821" y="11584"/>
                </a:cubicBezTo>
                <a:cubicBezTo>
                  <a:pt x="6863" y="11643"/>
                  <a:pt x="6906" y="11771"/>
                  <a:pt x="6921" y="11832"/>
                </a:cubicBezTo>
                <a:cubicBezTo>
                  <a:pt x="6933" y="11881"/>
                  <a:pt x="6921" y="11976"/>
                  <a:pt x="6995" y="11956"/>
                </a:cubicBezTo>
                <a:cubicBezTo>
                  <a:pt x="7003" y="11948"/>
                  <a:pt x="7012" y="11939"/>
                  <a:pt x="7020" y="11931"/>
                </a:cubicBezTo>
              </a:path>
              <a:path w="4119" h="4615">
                <a:moveTo>
                  <a:pt x="7293" y="10418"/>
                </a:moveTo>
                <a:cubicBezTo>
                  <a:pt x="7270" y="10499"/>
                  <a:pt x="7243" y="10559"/>
                  <a:pt x="7243" y="10641"/>
                </a:cubicBezTo>
                <a:cubicBezTo>
                  <a:pt x="7243" y="10711"/>
                  <a:pt x="7224" y="10809"/>
                  <a:pt x="7268" y="10864"/>
                </a:cubicBezTo>
                <a:cubicBezTo>
                  <a:pt x="7321" y="10930"/>
                  <a:pt x="7322" y="10969"/>
                  <a:pt x="7417" y="10988"/>
                </a:cubicBezTo>
                <a:cubicBezTo>
                  <a:pt x="7461" y="10997"/>
                  <a:pt x="7549" y="10997"/>
                  <a:pt x="7565" y="10939"/>
                </a:cubicBezTo>
                <a:cubicBezTo>
                  <a:pt x="7577" y="10895"/>
                  <a:pt x="7570" y="10784"/>
                  <a:pt x="7516" y="10765"/>
                </a:cubicBezTo>
                <a:cubicBezTo>
                  <a:pt x="7457" y="10744"/>
                  <a:pt x="7376" y="10805"/>
                  <a:pt x="7367" y="10864"/>
                </a:cubicBezTo>
                <a:cubicBezTo>
                  <a:pt x="7354" y="10948"/>
                  <a:pt x="7363" y="11036"/>
                  <a:pt x="7392" y="11112"/>
                </a:cubicBezTo>
              </a:path>
              <a:path w="4119" h="4615">
                <a:moveTo>
                  <a:pt x="8062" y="11410"/>
                </a:moveTo>
                <a:cubicBezTo>
                  <a:pt x="7999" y="11446"/>
                  <a:pt x="7998" y="11447"/>
                  <a:pt x="7962" y="11509"/>
                </a:cubicBezTo>
                <a:cubicBezTo>
                  <a:pt x="7996" y="11543"/>
                  <a:pt x="8030" y="11603"/>
                  <a:pt x="8086" y="11584"/>
                </a:cubicBezTo>
                <a:cubicBezTo>
                  <a:pt x="8135" y="11568"/>
                  <a:pt x="8143" y="11479"/>
                  <a:pt x="8086" y="11485"/>
                </a:cubicBezTo>
                <a:cubicBezTo>
                  <a:pt x="8057" y="11514"/>
                  <a:pt x="8042" y="11525"/>
                  <a:pt x="8012" y="11534"/>
                </a:cubicBezTo>
                <a:cubicBezTo>
                  <a:pt x="8026" y="11575"/>
                  <a:pt x="8089" y="11635"/>
                  <a:pt x="8136" y="11559"/>
                </a:cubicBezTo>
                <a:cubicBezTo>
                  <a:pt x="8136" y="11551"/>
                  <a:pt x="8136" y="11542"/>
                  <a:pt x="8136" y="11534"/>
                </a:cubicBezTo>
              </a:path>
              <a:path w="4119" h="4615">
                <a:moveTo>
                  <a:pt x="8731" y="11088"/>
                </a:moveTo>
                <a:cubicBezTo>
                  <a:pt x="8707" y="11136"/>
                  <a:pt x="8698" y="11150"/>
                  <a:pt x="8706" y="11187"/>
                </a:cubicBezTo>
                <a:cubicBezTo>
                  <a:pt x="8747" y="11146"/>
                  <a:pt x="8772" y="11109"/>
                  <a:pt x="8806" y="11063"/>
                </a:cubicBezTo>
                <a:cubicBezTo>
                  <a:pt x="8846" y="11009"/>
                  <a:pt x="8890" y="10968"/>
                  <a:pt x="8954" y="10964"/>
                </a:cubicBezTo>
                <a:cubicBezTo>
                  <a:pt x="9004" y="10961"/>
                  <a:pt x="9072" y="10994"/>
                  <a:pt x="9103" y="11038"/>
                </a:cubicBezTo>
                <a:cubicBezTo>
                  <a:pt x="9149" y="11103"/>
                  <a:pt x="9133" y="11190"/>
                  <a:pt x="9153" y="11261"/>
                </a:cubicBezTo>
                <a:cubicBezTo>
                  <a:pt x="9180" y="11353"/>
                  <a:pt x="9193" y="11459"/>
                  <a:pt x="9178" y="11559"/>
                </a:cubicBezTo>
                <a:cubicBezTo>
                  <a:pt x="9160" y="11678"/>
                  <a:pt x="9139" y="11791"/>
                  <a:pt x="9103" y="11906"/>
                </a:cubicBezTo>
                <a:cubicBezTo>
                  <a:pt x="9074" y="11998"/>
                  <a:pt x="9023" y="12114"/>
                  <a:pt x="8954" y="12179"/>
                </a:cubicBezTo>
                <a:cubicBezTo>
                  <a:pt x="8898" y="12232"/>
                  <a:pt x="8811" y="12238"/>
                  <a:pt x="8756" y="12179"/>
                </a:cubicBezTo>
                <a:cubicBezTo>
                  <a:pt x="8699" y="12117"/>
                  <a:pt x="8706" y="12033"/>
                  <a:pt x="8706" y="11956"/>
                </a:cubicBezTo>
                <a:cubicBezTo>
                  <a:pt x="8706" y="11909"/>
                  <a:pt x="8730" y="11783"/>
                  <a:pt x="8781" y="11757"/>
                </a:cubicBezTo>
                <a:cubicBezTo>
                  <a:pt x="8797" y="11757"/>
                  <a:pt x="8814" y="11757"/>
                  <a:pt x="8830" y="11757"/>
                </a:cubicBezTo>
                <a:cubicBezTo>
                  <a:pt x="8884" y="11811"/>
                  <a:pt x="8948" y="11860"/>
                  <a:pt x="8979" y="11931"/>
                </a:cubicBezTo>
                <a:cubicBezTo>
                  <a:pt x="9018" y="12019"/>
                  <a:pt x="9049" y="12112"/>
                  <a:pt x="9079" y="12204"/>
                </a:cubicBezTo>
                <a:cubicBezTo>
                  <a:pt x="9103" y="12277"/>
                  <a:pt x="9133" y="12363"/>
                  <a:pt x="9178" y="12427"/>
                </a:cubicBezTo>
                <a:cubicBezTo>
                  <a:pt x="9206" y="12455"/>
                  <a:pt x="9215" y="12459"/>
                  <a:pt x="9203" y="12402"/>
                </a:cubicBezTo>
              </a:path>
              <a:path w="4119" h="4615">
                <a:moveTo>
                  <a:pt x="9277" y="10592"/>
                </a:moveTo>
                <a:cubicBezTo>
                  <a:pt x="9218" y="10708"/>
                  <a:pt x="9316" y="10581"/>
                  <a:pt x="9327" y="10567"/>
                </a:cubicBezTo>
                <a:cubicBezTo>
                  <a:pt x="9335" y="10550"/>
                  <a:pt x="9343" y="10534"/>
                  <a:pt x="9351" y="10517"/>
                </a:cubicBezTo>
                <a:cubicBezTo>
                  <a:pt x="9468" y="10550"/>
                  <a:pt x="9399" y="10562"/>
                  <a:pt x="9451" y="10641"/>
                </a:cubicBezTo>
                <a:cubicBezTo>
                  <a:pt x="9472" y="10673"/>
                  <a:pt x="9492" y="10798"/>
                  <a:pt x="9475" y="10864"/>
                </a:cubicBezTo>
                <a:cubicBezTo>
                  <a:pt x="9463" y="10912"/>
                  <a:pt x="9439" y="10971"/>
                  <a:pt x="9401" y="11013"/>
                </a:cubicBezTo>
                <a:cubicBezTo>
                  <a:pt x="9361" y="11057"/>
                  <a:pt x="9360" y="11055"/>
                  <a:pt x="9302" y="11063"/>
                </a:cubicBezTo>
                <a:cubicBezTo>
                  <a:pt x="9263" y="10998"/>
                  <a:pt x="9283" y="10976"/>
                  <a:pt x="9302" y="10914"/>
                </a:cubicBezTo>
                <a:cubicBezTo>
                  <a:pt x="9313" y="10878"/>
                  <a:pt x="9322" y="10869"/>
                  <a:pt x="9351" y="10840"/>
                </a:cubicBezTo>
                <a:cubicBezTo>
                  <a:pt x="9397" y="10884"/>
                  <a:pt x="9442" y="10935"/>
                  <a:pt x="9475" y="10988"/>
                </a:cubicBezTo>
                <a:cubicBezTo>
                  <a:pt x="9525" y="11068"/>
                  <a:pt x="9532" y="11086"/>
                  <a:pt x="9624" y="11063"/>
                </a:cubicBezTo>
              </a:path>
              <a:path w="4119" h="4615">
                <a:moveTo>
                  <a:pt x="9723" y="10592"/>
                </a:moveTo>
                <a:cubicBezTo>
                  <a:pt x="9788" y="10701"/>
                  <a:pt x="9851" y="10766"/>
                  <a:pt x="9922" y="10864"/>
                </a:cubicBezTo>
                <a:cubicBezTo>
                  <a:pt x="9965" y="10923"/>
                  <a:pt x="10022" y="10984"/>
                  <a:pt x="10096" y="11013"/>
                </a:cubicBezTo>
                <a:cubicBezTo>
                  <a:pt x="10104" y="11013"/>
                  <a:pt x="10112" y="11013"/>
                  <a:pt x="10120" y="11013"/>
                </a:cubicBezTo>
              </a:path>
              <a:path w="4119" h="4615">
                <a:moveTo>
                  <a:pt x="9947" y="10567"/>
                </a:moveTo>
                <a:cubicBezTo>
                  <a:pt x="9874" y="10640"/>
                  <a:pt x="9812" y="10713"/>
                  <a:pt x="9748" y="10790"/>
                </a:cubicBezTo>
                <a:cubicBezTo>
                  <a:pt x="9690" y="10860"/>
                  <a:pt x="9648" y="10935"/>
                  <a:pt x="9599" y="11013"/>
                </a:cubicBezTo>
              </a:path>
              <a:path w="4119" h="4615">
                <a:moveTo>
                  <a:pt x="8012" y="13246"/>
                </a:moveTo>
                <a:cubicBezTo>
                  <a:pt x="7995" y="13271"/>
                  <a:pt x="7979" y="13295"/>
                  <a:pt x="7962" y="13320"/>
                </a:cubicBezTo>
                <a:cubicBezTo>
                  <a:pt x="8008" y="13263"/>
                  <a:pt x="8035" y="13201"/>
                  <a:pt x="8086" y="13146"/>
                </a:cubicBezTo>
                <a:cubicBezTo>
                  <a:pt x="8134" y="13095"/>
                  <a:pt x="8157" y="13059"/>
                  <a:pt x="8235" y="13072"/>
                </a:cubicBezTo>
                <a:cubicBezTo>
                  <a:pt x="8297" y="13082"/>
                  <a:pt x="8363" y="13130"/>
                  <a:pt x="8409" y="13171"/>
                </a:cubicBezTo>
                <a:cubicBezTo>
                  <a:pt x="8446" y="13204"/>
                  <a:pt x="8499" y="13296"/>
                  <a:pt x="8508" y="13345"/>
                </a:cubicBezTo>
                <a:cubicBezTo>
                  <a:pt x="8533" y="13487"/>
                  <a:pt x="8524" y="13679"/>
                  <a:pt x="8483" y="13816"/>
                </a:cubicBezTo>
                <a:cubicBezTo>
                  <a:pt x="8450" y="13928"/>
                  <a:pt x="8432" y="14007"/>
                  <a:pt x="8384" y="14114"/>
                </a:cubicBezTo>
                <a:cubicBezTo>
                  <a:pt x="8345" y="14201"/>
                  <a:pt x="8322" y="14286"/>
                  <a:pt x="8260" y="14362"/>
                </a:cubicBezTo>
                <a:cubicBezTo>
                  <a:pt x="8204" y="14431"/>
                  <a:pt x="8126" y="14518"/>
                  <a:pt x="8037" y="14536"/>
                </a:cubicBezTo>
                <a:cubicBezTo>
                  <a:pt x="7950" y="14554"/>
                  <a:pt x="7957" y="14488"/>
                  <a:pt x="7938" y="14436"/>
                </a:cubicBezTo>
                <a:cubicBezTo>
                  <a:pt x="7906" y="14347"/>
                  <a:pt x="7923" y="14325"/>
                  <a:pt x="7938" y="14238"/>
                </a:cubicBezTo>
                <a:cubicBezTo>
                  <a:pt x="7945" y="14198"/>
                  <a:pt x="7961" y="14107"/>
                  <a:pt x="8012" y="14089"/>
                </a:cubicBezTo>
                <a:cubicBezTo>
                  <a:pt x="8061" y="14072"/>
                  <a:pt x="8127" y="14133"/>
                  <a:pt x="8161" y="14163"/>
                </a:cubicBezTo>
                <a:cubicBezTo>
                  <a:pt x="8214" y="14210"/>
                  <a:pt x="8271" y="14302"/>
                  <a:pt x="8310" y="14362"/>
                </a:cubicBezTo>
                <a:cubicBezTo>
                  <a:pt x="8362" y="14442"/>
                  <a:pt x="8404" y="14516"/>
                  <a:pt x="8458" y="14585"/>
                </a:cubicBezTo>
                <a:cubicBezTo>
                  <a:pt x="8467" y="14596"/>
                  <a:pt x="8530" y="14716"/>
                  <a:pt x="8558" y="14709"/>
                </a:cubicBezTo>
                <a:cubicBezTo>
                  <a:pt x="8558" y="14701"/>
                  <a:pt x="8558" y="14692"/>
                  <a:pt x="8558" y="14684"/>
                </a:cubicBezTo>
              </a:path>
              <a:path w="4119" h="4615">
                <a:moveTo>
                  <a:pt x="8632" y="12675"/>
                </a:moveTo>
                <a:cubicBezTo>
                  <a:pt x="8609" y="12761"/>
                  <a:pt x="8588" y="12873"/>
                  <a:pt x="8558" y="12948"/>
                </a:cubicBezTo>
                <a:cubicBezTo>
                  <a:pt x="8536" y="13003"/>
                  <a:pt x="8566" y="13083"/>
                  <a:pt x="8607" y="13146"/>
                </a:cubicBezTo>
                <a:cubicBezTo>
                  <a:pt x="8636" y="13190"/>
                  <a:pt x="8701" y="13259"/>
                  <a:pt x="8756" y="13246"/>
                </a:cubicBezTo>
                <a:cubicBezTo>
                  <a:pt x="8823" y="13230"/>
                  <a:pt x="8870" y="13160"/>
                  <a:pt x="8880" y="13097"/>
                </a:cubicBezTo>
                <a:cubicBezTo>
                  <a:pt x="8894" y="13011"/>
                  <a:pt x="8862" y="12955"/>
                  <a:pt x="8806" y="12898"/>
                </a:cubicBezTo>
                <a:cubicBezTo>
                  <a:pt x="8710" y="12966"/>
                  <a:pt x="8743" y="12972"/>
                  <a:pt x="8756" y="13072"/>
                </a:cubicBezTo>
                <a:cubicBezTo>
                  <a:pt x="8756" y="13133"/>
                  <a:pt x="8747" y="13149"/>
                  <a:pt x="8781" y="13171"/>
                </a:cubicBezTo>
              </a:path>
              <a:path w="4119" h="4615">
                <a:moveTo>
                  <a:pt x="9153" y="12750"/>
                </a:moveTo>
                <a:cubicBezTo>
                  <a:pt x="9153" y="12847"/>
                  <a:pt x="9163" y="12932"/>
                  <a:pt x="9178" y="13022"/>
                </a:cubicBezTo>
                <a:cubicBezTo>
                  <a:pt x="9188" y="13082"/>
                  <a:pt x="9191" y="13137"/>
                  <a:pt x="9203" y="13196"/>
                </a:cubicBezTo>
              </a:path>
              <a:path w="4119" h="4615">
                <a:moveTo>
                  <a:pt x="9054" y="12799"/>
                </a:moveTo>
                <a:cubicBezTo>
                  <a:pt x="9091" y="12821"/>
                  <a:pt x="9156" y="12863"/>
                  <a:pt x="9203" y="12874"/>
                </a:cubicBezTo>
                <a:cubicBezTo>
                  <a:pt x="9219" y="12874"/>
                  <a:pt x="9236" y="12874"/>
                  <a:pt x="9252" y="12874"/>
                </a:cubicBezTo>
              </a:path>
              <a:path w="4119" h="4615">
                <a:moveTo>
                  <a:pt x="9376" y="12700"/>
                </a:moveTo>
                <a:cubicBezTo>
                  <a:pt x="9401" y="12725"/>
                  <a:pt x="9409" y="12733"/>
                  <a:pt x="9426" y="12750"/>
                </a:cubicBezTo>
                <a:cubicBezTo>
                  <a:pt x="9482" y="12693"/>
                  <a:pt x="9498" y="12643"/>
                  <a:pt x="9575" y="12675"/>
                </a:cubicBezTo>
                <a:cubicBezTo>
                  <a:pt x="9617" y="12692"/>
                  <a:pt x="9674" y="12734"/>
                  <a:pt x="9699" y="12774"/>
                </a:cubicBezTo>
                <a:cubicBezTo>
                  <a:pt x="9747" y="12850"/>
                  <a:pt x="9711" y="12899"/>
                  <a:pt x="9699" y="12973"/>
                </a:cubicBezTo>
                <a:cubicBezTo>
                  <a:pt x="9689" y="13034"/>
                  <a:pt x="9671" y="13100"/>
                  <a:pt x="9599" y="13122"/>
                </a:cubicBezTo>
                <a:cubicBezTo>
                  <a:pt x="9536" y="13141"/>
                  <a:pt x="9459" y="13090"/>
                  <a:pt x="9475" y="13022"/>
                </a:cubicBezTo>
                <a:cubicBezTo>
                  <a:pt x="9497" y="12979"/>
                  <a:pt x="9501" y="12967"/>
                  <a:pt x="9525" y="12948"/>
                </a:cubicBezTo>
                <a:cubicBezTo>
                  <a:pt x="9583" y="12987"/>
                  <a:pt x="9656" y="13017"/>
                  <a:pt x="9699" y="13072"/>
                </a:cubicBezTo>
                <a:cubicBezTo>
                  <a:pt x="9762" y="13151"/>
                  <a:pt x="9706" y="13135"/>
                  <a:pt x="9823" y="13146"/>
                </a:cubicBezTo>
              </a:path>
              <a:path w="4119" h="4615">
                <a:moveTo>
                  <a:pt x="9922" y="12799"/>
                </a:moveTo>
                <a:cubicBezTo>
                  <a:pt x="9968" y="12845"/>
                  <a:pt x="9982" y="12898"/>
                  <a:pt x="10021" y="12948"/>
                </a:cubicBezTo>
                <a:cubicBezTo>
                  <a:pt x="10073" y="13015"/>
                  <a:pt x="10114" y="13083"/>
                  <a:pt x="10170" y="13146"/>
                </a:cubicBezTo>
              </a:path>
              <a:path w="4119" h="4615">
                <a:moveTo>
                  <a:pt x="10220" y="12700"/>
                </a:moveTo>
                <a:cubicBezTo>
                  <a:pt x="10100" y="12657"/>
                  <a:pt x="10046" y="12661"/>
                  <a:pt x="9922" y="12725"/>
                </a:cubicBezTo>
                <a:cubicBezTo>
                  <a:pt x="9810" y="12782"/>
                  <a:pt x="9787" y="12858"/>
                  <a:pt x="9723" y="12948"/>
                </a:cubicBezTo>
                <a:cubicBezTo>
                  <a:pt x="9707" y="12965"/>
                  <a:pt x="9690" y="12981"/>
                  <a:pt x="9674" y="12998"/>
                </a:cubicBezTo>
              </a:path>
              <a:path w="4119" h="4615">
                <a:moveTo>
                  <a:pt x="7565" y="12700"/>
                </a:moveTo>
                <a:cubicBezTo>
                  <a:pt x="7524" y="12836"/>
                  <a:pt x="7494" y="12954"/>
                  <a:pt x="7491" y="13097"/>
                </a:cubicBezTo>
                <a:cubicBezTo>
                  <a:pt x="7487" y="13297"/>
                  <a:pt x="7500" y="13517"/>
                  <a:pt x="7516" y="13717"/>
                </a:cubicBezTo>
                <a:cubicBezTo>
                  <a:pt x="7534" y="13934"/>
                  <a:pt x="7529" y="14121"/>
                  <a:pt x="7516" y="14337"/>
                </a:cubicBezTo>
                <a:cubicBezTo>
                  <a:pt x="7508" y="14466"/>
                  <a:pt x="7491" y="14587"/>
                  <a:pt x="7466" y="14709"/>
                </a:cubicBezTo>
                <a:cubicBezTo>
                  <a:pt x="7466" y="14717"/>
                  <a:pt x="7466" y="14726"/>
                  <a:pt x="7466" y="14734"/>
                </a:cubicBezTo>
              </a:path>
              <a:path w="4119" h="4615">
                <a:moveTo>
                  <a:pt x="7441" y="12774"/>
                </a:moveTo>
                <a:cubicBezTo>
                  <a:pt x="7451" y="12691"/>
                  <a:pt x="7422" y="12614"/>
                  <a:pt x="7491" y="12551"/>
                </a:cubicBezTo>
                <a:cubicBezTo>
                  <a:pt x="7548" y="12499"/>
                  <a:pt x="7647" y="12536"/>
                  <a:pt x="7714" y="12526"/>
                </a:cubicBezTo>
                <a:cubicBezTo>
                  <a:pt x="7885" y="12500"/>
                  <a:pt x="8061" y="12481"/>
                  <a:pt x="8235" y="12477"/>
                </a:cubicBezTo>
                <a:cubicBezTo>
                  <a:pt x="8427" y="12473"/>
                  <a:pt x="8613" y="12452"/>
                  <a:pt x="8806" y="12452"/>
                </a:cubicBezTo>
                <a:cubicBezTo>
                  <a:pt x="9015" y="12452"/>
                  <a:pt x="9218" y="12431"/>
                  <a:pt x="9426" y="12427"/>
                </a:cubicBezTo>
                <a:cubicBezTo>
                  <a:pt x="9714" y="12422"/>
                  <a:pt x="9988" y="12339"/>
                  <a:pt x="10269" y="12303"/>
                </a:cubicBezTo>
                <a:cubicBezTo>
                  <a:pt x="10381" y="12289"/>
                  <a:pt x="10497" y="12238"/>
                  <a:pt x="10592" y="12328"/>
                </a:cubicBezTo>
                <a:cubicBezTo>
                  <a:pt x="10657" y="12389"/>
                  <a:pt x="10649" y="12449"/>
                  <a:pt x="10666" y="12526"/>
                </a:cubicBezTo>
                <a:cubicBezTo>
                  <a:pt x="10694" y="12651"/>
                  <a:pt x="10713" y="12768"/>
                  <a:pt x="10716" y="12898"/>
                </a:cubicBezTo>
                <a:cubicBezTo>
                  <a:pt x="10723" y="13173"/>
                  <a:pt x="10705" y="13444"/>
                  <a:pt x="10691" y="13717"/>
                </a:cubicBezTo>
                <a:cubicBezTo>
                  <a:pt x="10680" y="13915"/>
                  <a:pt x="10670" y="14114"/>
                  <a:pt x="10666" y="14312"/>
                </a:cubicBezTo>
                <a:cubicBezTo>
                  <a:pt x="10663" y="14464"/>
                  <a:pt x="10644" y="14611"/>
                  <a:pt x="10616" y="14759"/>
                </a:cubicBezTo>
                <a:cubicBezTo>
                  <a:pt x="10601" y="14835"/>
                  <a:pt x="10584" y="14909"/>
                  <a:pt x="10567" y="14982"/>
                </a:cubicBezTo>
                <a:cubicBezTo>
                  <a:pt x="10516" y="14980"/>
                  <a:pt x="10440" y="14995"/>
                  <a:pt x="10368" y="14982"/>
                </a:cubicBezTo>
                <a:cubicBezTo>
                  <a:pt x="10241" y="14958"/>
                  <a:pt x="10152" y="14935"/>
                  <a:pt x="10021" y="14932"/>
                </a:cubicBezTo>
                <a:cubicBezTo>
                  <a:pt x="9880" y="14928"/>
                  <a:pt x="9743" y="14957"/>
                  <a:pt x="9599" y="14957"/>
                </a:cubicBezTo>
                <a:cubicBezTo>
                  <a:pt x="9389" y="14957"/>
                  <a:pt x="9185" y="14950"/>
                  <a:pt x="8979" y="14957"/>
                </a:cubicBezTo>
                <a:cubicBezTo>
                  <a:pt x="8722" y="14966"/>
                  <a:pt x="8466" y="14972"/>
                  <a:pt x="8210" y="14982"/>
                </a:cubicBezTo>
                <a:cubicBezTo>
                  <a:pt x="7937" y="14993"/>
                  <a:pt x="7664" y="14994"/>
                  <a:pt x="7392" y="15007"/>
                </a:cubicBezTo>
                <a:cubicBezTo>
                  <a:pt x="7254" y="15014"/>
                  <a:pt x="7131" y="15009"/>
                  <a:pt x="6995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Ink 6"/>
          <p:cNvSpPr/>
          <p:nvPr/>
        </p:nvSpPr>
        <p:spPr>
          <a:xfrm>
            <a:off x="6483240" y="1731960"/>
            <a:ext cx="803520" cy="1760400"/>
          </a:xfrm>
          <a:custGeom>
            <a:avLst/>
            <a:gdLst/>
            <a:ahLst/>
            <a:rect l="l" t="t" r="r" b="b"/>
            <a:pathLst>
              <a:path w="2234" h="4888">
                <a:moveTo>
                  <a:pt x="18083" y="5383"/>
                </a:moveTo>
                <a:cubicBezTo>
                  <a:pt x="18114" y="5436"/>
                  <a:pt x="18116" y="5494"/>
                  <a:pt x="18132" y="5556"/>
                </a:cubicBezTo>
                <a:cubicBezTo>
                  <a:pt x="18156" y="5649"/>
                  <a:pt x="18211" y="5747"/>
                  <a:pt x="18256" y="5829"/>
                </a:cubicBezTo>
                <a:cubicBezTo>
                  <a:pt x="18315" y="5938"/>
                  <a:pt x="18395" y="6036"/>
                  <a:pt x="18479" y="6127"/>
                </a:cubicBezTo>
                <a:cubicBezTo>
                  <a:pt x="18533" y="6185"/>
                  <a:pt x="18565" y="6188"/>
                  <a:pt x="18628" y="6176"/>
                </a:cubicBezTo>
                <a:cubicBezTo>
                  <a:pt x="18636" y="6176"/>
                  <a:pt x="18645" y="6176"/>
                  <a:pt x="18653" y="6176"/>
                </a:cubicBezTo>
              </a:path>
              <a:path w="2234" h="4888">
                <a:moveTo>
                  <a:pt x="18455" y="5333"/>
                </a:moveTo>
                <a:cubicBezTo>
                  <a:pt x="18447" y="5456"/>
                  <a:pt x="18416" y="5561"/>
                  <a:pt x="18380" y="5680"/>
                </a:cubicBezTo>
                <a:cubicBezTo>
                  <a:pt x="18345" y="5796"/>
                  <a:pt x="18297" y="5892"/>
                  <a:pt x="18256" y="6003"/>
                </a:cubicBezTo>
                <a:cubicBezTo>
                  <a:pt x="18223" y="6091"/>
                  <a:pt x="18174" y="6164"/>
                  <a:pt x="18132" y="6251"/>
                </a:cubicBezTo>
                <a:cubicBezTo>
                  <a:pt x="18117" y="6283"/>
                  <a:pt x="18060" y="6441"/>
                  <a:pt x="18132" y="6276"/>
                </a:cubicBezTo>
              </a:path>
              <a:path w="2234" h="4888">
                <a:moveTo>
                  <a:pt x="18430" y="4986"/>
                </a:moveTo>
                <a:cubicBezTo>
                  <a:pt x="18505" y="4911"/>
                  <a:pt x="18566" y="4806"/>
                  <a:pt x="18678" y="4862"/>
                </a:cubicBezTo>
                <a:cubicBezTo>
                  <a:pt x="18746" y="4896"/>
                  <a:pt x="18680" y="5018"/>
                  <a:pt x="18653" y="5060"/>
                </a:cubicBezTo>
                <a:cubicBezTo>
                  <a:pt x="18633" y="5091"/>
                  <a:pt x="18551" y="5200"/>
                  <a:pt x="18628" y="5234"/>
                </a:cubicBezTo>
                <a:cubicBezTo>
                  <a:pt x="18676" y="5255"/>
                  <a:pt x="18797" y="5234"/>
                  <a:pt x="18852" y="5234"/>
                </a:cubicBezTo>
              </a:path>
              <a:path w="2234" h="4888">
                <a:moveTo>
                  <a:pt x="19100" y="5705"/>
                </a:moveTo>
                <a:cubicBezTo>
                  <a:pt x="19075" y="5730"/>
                  <a:pt x="19067" y="5738"/>
                  <a:pt x="19050" y="5755"/>
                </a:cubicBezTo>
                <a:cubicBezTo>
                  <a:pt x="19079" y="5769"/>
                  <a:pt x="19176" y="5721"/>
                  <a:pt x="19124" y="5680"/>
                </a:cubicBezTo>
                <a:cubicBezTo>
                  <a:pt x="19083" y="5648"/>
                  <a:pt x="19143" y="5684"/>
                  <a:pt x="19100" y="5655"/>
                </a:cubicBezTo>
                <a:cubicBezTo>
                  <a:pt x="19068" y="5634"/>
                  <a:pt x="19027" y="5673"/>
                  <a:pt x="19000" y="5680"/>
                </a:cubicBezTo>
              </a:path>
              <a:path w="2234" h="4888">
                <a:moveTo>
                  <a:pt x="19596" y="5482"/>
                </a:moveTo>
                <a:cubicBezTo>
                  <a:pt x="19647" y="5574"/>
                  <a:pt x="19689" y="5666"/>
                  <a:pt x="19745" y="5755"/>
                </a:cubicBezTo>
                <a:cubicBezTo>
                  <a:pt x="19806" y="5852"/>
                  <a:pt x="19875" y="5938"/>
                  <a:pt x="19943" y="6028"/>
                </a:cubicBezTo>
                <a:cubicBezTo>
                  <a:pt x="19998" y="6101"/>
                  <a:pt x="20053" y="6161"/>
                  <a:pt x="20117" y="6226"/>
                </a:cubicBezTo>
                <a:cubicBezTo>
                  <a:pt x="20146" y="6256"/>
                  <a:pt x="20160" y="6261"/>
                  <a:pt x="20191" y="6226"/>
                </a:cubicBezTo>
              </a:path>
              <a:path w="2234" h="4888">
                <a:moveTo>
                  <a:pt x="19869" y="5383"/>
                </a:moveTo>
                <a:cubicBezTo>
                  <a:pt x="19812" y="5511"/>
                  <a:pt x="19758" y="5633"/>
                  <a:pt x="19695" y="5755"/>
                </a:cubicBezTo>
                <a:cubicBezTo>
                  <a:pt x="19641" y="5860"/>
                  <a:pt x="19622" y="5971"/>
                  <a:pt x="19571" y="6077"/>
                </a:cubicBezTo>
                <a:cubicBezTo>
                  <a:pt x="19564" y="6092"/>
                  <a:pt x="19482" y="6191"/>
                  <a:pt x="19546" y="6127"/>
                </a:cubicBezTo>
              </a:path>
              <a:path w="2234" h="4888">
                <a:moveTo>
                  <a:pt x="20042" y="4986"/>
                </a:moveTo>
                <a:cubicBezTo>
                  <a:pt x="20037" y="5022"/>
                  <a:pt x="19985" y="5113"/>
                  <a:pt x="20042" y="5135"/>
                </a:cubicBezTo>
                <a:cubicBezTo>
                  <a:pt x="20109" y="5161"/>
                  <a:pt x="20191" y="5119"/>
                  <a:pt x="20241" y="5085"/>
                </a:cubicBezTo>
              </a:path>
              <a:path w="2234" h="4888">
                <a:moveTo>
                  <a:pt x="20191" y="4812"/>
                </a:moveTo>
                <a:cubicBezTo>
                  <a:pt x="20169" y="4950"/>
                  <a:pt x="20108" y="5143"/>
                  <a:pt x="20117" y="5283"/>
                </a:cubicBezTo>
                <a:cubicBezTo>
                  <a:pt x="20121" y="5347"/>
                  <a:pt x="20146" y="5422"/>
                  <a:pt x="20166" y="5482"/>
                </a:cubicBezTo>
              </a:path>
              <a:path w="2234" h="4888">
                <a:moveTo>
                  <a:pt x="18281" y="7218"/>
                </a:moveTo>
                <a:cubicBezTo>
                  <a:pt x="18312" y="7389"/>
                  <a:pt x="18351" y="7489"/>
                  <a:pt x="18430" y="7640"/>
                </a:cubicBezTo>
                <a:cubicBezTo>
                  <a:pt x="18477" y="7730"/>
                  <a:pt x="18533" y="7792"/>
                  <a:pt x="18604" y="7863"/>
                </a:cubicBezTo>
                <a:cubicBezTo>
                  <a:pt x="18685" y="7944"/>
                  <a:pt x="18712" y="7980"/>
                  <a:pt x="18827" y="7987"/>
                </a:cubicBezTo>
                <a:cubicBezTo>
                  <a:pt x="18835" y="7987"/>
                  <a:pt x="18844" y="7987"/>
                  <a:pt x="18852" y="7987"/>
                </a:cubicBezTo>
              </a:path>
              <a:path w="2234" h="4888">
                <a:moveTo>
                  <a:pt x="18529" y="7045"/>
                </a:moveTo>
                <a:cubicBezTo>
                  <a:pt x="18435" y="7232"/>
                  <a:pt x="18353" y="7431"/>
                  <a:pt x="18256" y="7615"/>
                </a:cubicBezTo>
                <a:cubicBezTo>
                  <a:pt x="18199" y="7723"/>
                  <a:pt x="18141" y="7831"/>
                  <a:pt x="18083" y="7938"/>
                </a:cubicBezTo>
                <a:cubicBezTo>
                  <a:pt x="18047" y="8003"/>
                  <a:pt x="18018" y="8069"/>
                  <a:pt x="18008" y="8136"/>
                </a:cubicBezTo>
              </a:path>
              <a:path w="2234" h="4888">
                <a:moveTo>
                  <a:pt x="18579" y="6672"/>
                </a:moveTo>
                <a:cubicBezTo>
                  <a:pt x="18626" y="6672"/>
                  <a:pt x="18710" y="6658"/>
                  <a:pt x="18728" y="6722"/>
                </a:cubicBezTo>
                <a:cubicBezTo>
                  <a:pt x="18740" y="6763"/>
                  <a:pt x="18701" y="6842"/>
                  <a:pt x="18678" y="6871"/>
                </a:cubicBezTo>
                <a:cubicBezTo>
                  <a:pt x="18628" y="6933"/>
                  <a:pt x="18658" y="6995"/>
                  <a:pt x="18752" y="6970"/>
                </a:cubicBezTo>
                <a:cubicBezTo>
                  <a:pt x="18782" y="6940"/>
                  <a:pt x="18796" y="6929"/>
                  <a:pt x="18827" y="6921"/>
                </a:cubicBezTo>
              </a:path>
              <a:path w="2234" h="4888">
                <a:moveTo>
                  <a:pt x="19050" y="6648"/>
                </a:moveTo>
                <a:cubicBezTo>
                  <a:pt x="19043" y="6729"/>
                  <a:pt x="19009" y="6811"/>
                  <a:pt x="19025" y="6896"/>
                </a:cubicBezTo>
                <a:cubicBezTo>
                  <a:pt x="19047" y="6961"/>
                  <a:pt x="19055" y="6976"/>
                  <a:pt x="19050" y="7020"/>
                </a:cubicBezTo>
              </a:path>
              <a:path w="2234" h="4888">
                <a:moveTo>
                  <a:pt x="18901" y="6772"/>
                </a:moveTo>
                <a:cubicBezTo>
                  <a:pt x="18972" y="6772"/>
                  <a:pt x="19011" y="6756"/>
                  <a:pt x="19075" y="6747"/>
                </a:cubicBezTo>
              </a:path>
              <a:path w="2234" h="4888">
                <a:moveTo>
                  <a:pt x="19273" y="6648"/>
                </a:moveTo>
                <a:cubicBezTo>
                  <a:pt x="19247" y="6751"/>
                  <a:pt x="19270" y="6747"/>
                  <a:pt x="19372" y="6747"/>
                </a:cubicBezTo>
              </a:path>
              <a:path w="2234" h="4888">
                <a:moveTo>
                  <a:pt x="19472" y="6474"/>
                </a:moveTo>
                <a:cubicBezTo>
                  <a:pt x="19445" y="6567"/>
                  <a:pt x="19422" y="6659"/>
                  <a:pt x="19397" y="6747"/>
                </a:cubicBezTo>
                <a:cubicBezTo>
                  <a:pt x="19375" y="6824"/>
                  <a:pt x="19372" y="6888"/>
                  <a:pt x="19372" y="6970"/>
                </a:cubicBezTo>
              </a:path>
              <a:path w="2234" h="4888">
                <a:moveTo>
                  <a:pt x="18579" y="8706"/>
                </a:moveTo>
                <a:cubicBezTo>
                  <a:pt x="18587" y="8804"/>
                  <a:pt x="18606" y="8914"/>
                  <a:pt x="18653" y="9004"/>
                </a:cubicBezTo>
                <a:cubicBezTo>
                  <a:pt x="18719" y="9131"/>
                  <a:pt x="18823" y="9254"/>
                  <a:pt x="18901" y="9376"/>
                </a:cubicBezTo>
                <a:cubicBezTo>
                  <a:pt x="18945" y="9445"/>
                  <a:pt x="19037" y="9540"/>
                  <a:pt x="19100" y="9599"/>
                </a:cubicBezTo>
                <a:cubicBezTo>
                  <a:pt x="19133" y="9599"/>
                  <a:pt x="19149" y="9599"/>
                  <a:pt x="19174" y="9599"/>
                </a:cubicBezTo>
              </a:path>
              <a:path w="2234" h="4888">
                <a:moveTo>
                  <a:pt x="19025" y="8731"/>
                </a:moveTo>
                <a:cubicBezTo>
                  <a:pt x="18947" y="8859"/>
                  <a:pt x="18859" y="8978"/>
                  <a:pt x="18777" y="9103"/>
                </a:cubicBezTo>
                <a:cubicBezTo>
                  <a:pt x="18698" y="9225"/>
                  <a:pt x="18632" y="9353"/>
                  <a:pt x="18554" y="9475"/>
                </a:cubicBezTo>
                <a:cubicBezTo>
                  <a:pt x="18539" y="9499"/>
                  <a:pt x="18464" y="9699"/>
                  <a:pt x="18430" y="9699"/>
                </a:cubicBezTo>
                <a:cubicBezTo>
                  <a:pt x="18430" y="9691"/>
                  <a:pt x="18430" y="9682"/>
                  <a:pt x="18430" y="9674"/>
                </a:cubicBezTo>
              </a:path>
              <a:path w="2234" h="4888">
                <a:moveTo>
                  <a:pt x="19199" y="8359"/>
                </a:moveTo>
                <a:cubicBezTo>
                  <a:pt x="19191" y="8434"/>
                  <a:pt x="19152" y="8489"/>
                  <a:pt x="19149" y="8558"/>
                </a:cubicBezTo>
                <a:cubicBezTo>
                  <a:pt x="19146" y="8630"/>
                  <a:pt x="19183" y="8677"/>
                  <a:pt x="19273" y="8657"/>
                </a:cubicBezTo>
                <a:cubicBezTo>
                  <a:pt x="19355" y="8639"/>
                  <a:pt x="19416" y="8620"/>
                  <a:pt x="19447" y="8558"/>
                </a:cubicBezTo>
                <a:cubicBezTo>
                  <a:pt x="19466" y="8500"/>
                  <a:pt x="19493" y="8475"/>
                  <a:pt x="19447" y="8483"/>
                </a:cubicBezTo>
                <a:cubicBezTo>
                  <a:pt x="19351" y="8519"/>
                  <a:pt x="19350" y="8552"/>
                  <a:pt x="19298" y="8632"/>
                </a:cubicBezTo>
                <a:cubicBezTo>
                  <a:pt x="19270" y="8660"/>
                  <a:pt x="19261" y="8673"/>
                  <a:pt x="19273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Ink 7"/>
          <p:cNvSpPr/>
          <p:nvPr/>
        </p:nvSpPr>
        <p:spPr>
          <a:xfrm>
            <a:off x="2214720" y="2554200"/>
            <a:ext cx="1206360" cy="554040"/>
          </a:xfrm>
          <a:custGeom>
            <a:avLst/>
            <a:gdLst/>
            <a:ahLst/>
            <a:rect l="l" t="t" r="r" b="b"/>
            <a:pathLst>
              <a:path w="3349" h="1539">
                <a:moveTo>
                  <a:pt x="6152" y="7243"/>
                </a:moveTo>
                <a:cubicBezTo>
                  <a:pt x="6305" y="7155"/>
                  <a:pt x="6391" y="7144"/>
                  <a:pt x="6573" y="7144"/>
                </a:cubicBezTo>
                <a:cubicBezTo>
                  <a:pt x="7177" y="7144"/>
                  <a:pt x="7782" y="7150"/>
                  <a:pt x="8384" y="7119"/>
                </a:cubicBezTo>
                <a:cubicBezTo>
                  <a:pt x="8574" y="7109"/>
                  <a:pt x="8764" y="7099"/>
                  <a:pt x="8954" y="7094"/>
                </a:cubicBezTo>
                <a:cubicBezTo>
                  <a:pt x="9042" y="7092"/>
                  <a:pt x="9237" y="7059"/>
                  <a:pt x="9302" y="7119"/>
                </a:cubicBezTo>
                <a:cubicBezTo>
                  <a:pt x="9359" y="7171"/>
                  <a:pt x="9345" y="7194"/>
                  <a:pt x="9351" y="7268"/>
                </a:cubicBezTo>
                <a:cubicBezTo>
                  <a:pt x="9358" y="7364"/>
                  <a:pt x="9330" y="7447"/>
                  <a:pt x="9327" y="7541"/>
                </a:cubicBezTo>
                <a:cubicBezTo>
                  <a:pt x="9323" y="7672"/>
                  <a:pt x="9331" y="7810"/>
                  <a:pt x="9351" y="7938"/>
                </a:cubicBezTo>
                <a:cubicBezTo>
                  <a:pt x="9376" y="8097"/>
                  <a:pt x="9424" y="8256"/>
                  <a:pt x="9475" y="8409"/>
                </a:cubicBezTo>
                <a:cubicBezTo>
                  <a:pt x="9502" y="8491"/>
                  <a:pt x="9500" y="8545"/>
                  <a:pt x="9500" y="8632"/>
                </a:cubicBezTo>
                <a:cubicBezTo>
                  <a:pt x="9146" y="8632"/>
                  <a:pt x="8800" y="8624"/>
                  <a:pt x="8458" y="8582"/>
                </a:cubicBezTo>
                <a:cubicBezTo>
                  <a:pt x="8239" y="8555"/>
                  <a:pt x="8006" y="8589"/>
                  <a:pt x="7789" y="8558"/>
                </a:cubicBezTo>
                <a:cubicBezTo>
                  <a:pt x="7516" y="8519"/>
                  <a:pt x="7225" y="8460"/>
                  <a:pt x="6945" y="8508"/>
                </a:cubicBezTo>
                <a:cubicBezTo>
                  <a:pt x="6789" y="8535"/>
                  <a:pt x="6632" y="8534"/>
                  <a:pt x="6474" y="8558"/>
                </a:cubicBezTo>
                <a:cubicBezTo>
                  <a:pt x="6389" y="8571"/>
                  <a:pt x="6296" y="8590"/>
                  <a:pt x="6226" y="8632"/>
                </a:cubicBezTo>
                <a:cubicBezTo>
                  <a:pt x="6234" y="8632"/>
                  <a:pt x="6243" y="8632"/>
                  <a:pt x="6251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5ffff"/>
                </a:solidFill>
                <a:latin typeface="Tahoma"/>
              </a:rPr>
              <a:t>Assignment: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Tahoma"/>
              </a:rPr>
              <a:t>Page 225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Tahoma"/>
              </a:rPr>
              <a:t>#1-13</a:t>
            </a:r>
            <a:endParaRPr b="0" lang="en-US" sz="85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19:41Z</dcterms:created>
  <dc:creator>jnewman</dc:creator>
  <dc:description/>
  <dc:language>en-US</dc:language>
  <cp:lastModifiedBy>abeason</cp:lastModifiedBy>
  <dcterms:modified xsi:type="dcterms:W3CDTF">2010-06-01T14:08:19Z</dcterms:modified>
  <cp:revision>14</cp:revision>
  <dc:subject/>
  <dc:title>Lesson 3.1</dc:title>
</cp:coreProperties>
</file>